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C4EFC19A-335F-40B0-8449-C0AA119038E3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C:\Documents and Settings\t11318\桌面\setwalls.ru-8387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6885000" y="549360"/>
            <a:ext cx="530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300"/>
                </a:solidFill>
                <a:latin typeface="微软雅黑"/>
                <a:ea typeface="微软雅黑"/>
              </a:rPr>
              <a:t>感谢您的阅读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09D81AAD-CCD8-4800-AC15-F098C6D0BC66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9016920" y="3596040"/>
            <a:ext cx="574200" cy="431280"/>
            <a:chOff x="9016920" y="3596040"/>
            <a:chExt cx="574200" cy="431280"/>
          </a:xfrm>
        </p:grpSpPr>
        <p:sp>
          <p:nvSpPr>
            <p:cNvPr id="43" name="二十四角星 10"/>
            <p:cNvSpPr/>
            <p:nvPr/>
          </p:nvSpPr>
          <p:spPr>
            <a:xfrm>
              <a:off x="9065880" y="3645000"/>
              <a:ext cx="355680" cy="355680"/>
            </a:xfrm>
            <a:custGeom>
              <a:avLst/>
              <a:gdLst>
                <a:gd name="textAreaLeft" fmla="*/ 83520 w 355680"/>
                <a:gd name="textAreaRight" fmla="*/ 272160 w 355680"/>
                <a:gd name="textAreaTop" fmla="*/ 83520 h 355680"/>
                <a:gd name="textAreaBottom" fmla="*/ 27216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60" y="11787"/>
                  </a:lnTo>
                  <a:lnTo>
                    <a:pt x="368" y="13595"/>
                  </a:lnTo>
                  <a:lnTo>
                    <a:pt x="3290" y="13834"/>
                  </a:lnTo>
                  <a:lnTo>
                    <a:pt x="1447" y="16200"/>
                  </a:lnTo>
                  <a:lnTo>
                    <a:pt x="4331" y="15675"/>
                  </a:lnTo>
                  <a:lnTo>
                    <a:pt x="3163" y="18437"/>
                  </a:lnTo>
                  <a:lnTo>
                    <a:pt x="5813" y="17183"/>
                  </a:lnTo>
                  <a:lnTo>
                    <a:pt x="5400" y="20153"/>
                  </a:lnTo>
                  <a:lnTo>
                    <a:pt x="7635" y="18256"/>
                  </a:lnTo>
                  <a:lnTo>
                    <a:pt x="8005" y="21232"/>
                  </a:lnTo>
                  <a:lnTo>
                    <a:pt x="9673" y="18821"/>
                  </a:lnTo>
                  <a:lnTo>
                    <a:pt x="10800" y="21600"/>
                  </a:lnTo>
                  <a:lnTo>
                    <a:pt x="11787" y="18840"/>
                  </a:lnTo>
                  <a:lnTo>
                    <a:pt x="13595" y="21232"/>
                  </a:lnTo>
                  <a:lnTo>
                    <a:pt x="13834" y="18310"/>
                  </a:lnTo>
                  <a:lnTo>
                    <a:pt x="16200" y="20153"/>
                  </a:lnTo>
                  <a:lnTo>
                    <a:pt x="15675" y="17269"/>
                  </a:lnTo>
                  <a:lnTo>
                    <a:pt x="18437" y="18437"/>
                  </a:lnTo>
                  <a:lnTo>
                    <a:pt x="17183" y="15787"/>
                  </a:lnTo>
                  <a:lnTo>
                    <a:pt x="20153" y="16200"/>
                  </a:lnTo>
                  <a:lnTo>
                    <a:pt x="18256" y="13965"/>
                  </a:lnTo>
                  <a:lnTo>
                    <a:pt x="21232" y="13595"/>
                  </a:lnTo>
                  <a:lnTo>
                    <a:pt x="18821" y="11927"/>
                  </a:lnTo>
                  <a:lnTo>
                    <a:pt x="21600" y="10800"/>
                  </a:lnTo>
                  <a:lnTo>
                    <a:pt x="18840" y="9813"/>
                  </a:lnTo>
                  <a:lnTo>
                    <a:pt x="21232" y="8005"/>
                  </a:lnTo>
                  <a:lnTo>
                    <a:pt x="18310" y="7766"/>
                  </a:lnTo>
                  <a:lnTo>
                    <a:pt x="20153" y="5400"/>
                  </a:lnTo>
                  <a:lnTo>
                    <a:pt x="17269" y="5925"/>
                  </a:lnTo>
                  <a:lnTo>
                    <a:pt x="18437" y="3163"/>
                  </a:lnTo>
                  <a:lnTo>
                    <a:pt x="15787" y="4417"/>
                  </a:lnTo>
                  <a:lnTo>
                    <a:pt x="16200" y="1447"/>
                  </a:lnTo>
                  <a:lnTo>
                    <a:pt x="13965" y="3344"/>
                  </a:lnTo>
                  <a:lnTo>
                    <a:pt x="13595" y="368"/>
                  </a:lnTo>
                  <a:lnTo>
                    <a:pt x="11927" y="2779"/>
                  </a:lnTo>
                  <a:lnTo>
                    <a:pt x="10800" y="0"/>
                  </a:lnTo>
                  <a:lnTo>
                    <a:pt x="9813" y="2760"/>
                  </a:lnTo>
                  <a:lnTo>
                    <a:pt x="8005" y="368"/>
                  </a:lnTo>
                  <a:lnTo>
                    <a:pt x="7766" y="3290"/>
                  </a:lnTo>
                  <a:lnTo>
                    <a:pt x="5400" y="1447"/>
                  </a:lnTo>
                  <a:lnTo>
                    <a:pt x="5925" y="4331"/>
                  </a:lnTo>
                  <a:lnTo>
                    <a:pt x="3163" y="3163"/>
                  </a:lnTo>
                  <a:lnTo>
                    <a:pt x="4417" y="5813"/>
                  </a:lnTo>
                  <a:lnTo>
                    <a:pt x="1447" y="5400"/>
                  </a:lnTo>
                  <a:lnTo>
                    <a:pt x="3344" y="7635"/>
                  </a:lnTo>
                  <a:lnTo>
                    <a:pt x="368" y="8005"/>
                  </a:lnTo>
                  <a:lnTo>
                    <a:pt x="2779" y="967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1"/>
            <p:cNvSpPr/>
            <p:nvPr/>
          </p:nvSpPr>
          <p:spPr>
            <a:xfrm rot="20430000">
              <a:off x="9048240" y="3673080"/>
              <a:ext cx="51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Box 12"/>
          <p:cNvSpPr/>
          <p:nvPr/>
        </p:nvSpPr>
        <p:spPr>
          <a:xfrm>
            <a:off x="456480" y="139680"/>
            <a:ext cx="4546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层经理培训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F:\360云盘\02-个人资料\！PPT图片及版面资源\05-PPT精选插图\01-生活类\01-生活综合\look.com.ua-5609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5" descr=""/>
          <p:cNvPicPr/>
          <p:nvPr/>
        </p:nvPicPr>
        <p:blipFill>
          <a:blip r:embed="rId3"/>
          <a:stretch/>
        </p:blipFill>
        <p:spPr>
          <a:xfrm>
            <a:off x="2602080" y="3483000"/>
            <a:ext cx="7515000" cy="153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25"/>
          <p:cNvGrpSpPr/>
          <p:nvPr/>
        </p:nvGrpSpPr>
        <p:grpSpPr>
          <a:xfrm>
            <a:off x="5597640" y="4087800"/>
            <a:ext cx="5970600" cy="781200"/>
            <a:chOff x="5597640" y="4087800"/>
            <a:chExt cx="5970600" cy="781200"/>
          </a:xfrm>
        </p:grpSpPr>
        <p:grpSp>
          <p:nvGrpSpPr>
            <p:cNvPr id="85" name="组合 26"/>
            <p:cNvGrpSpPr/>
            <p:nvPr/>
          </p:nvGrpSpPr>
          <p:grpSpPr>
            <a:xfrm>
              <a:off x="5597640" y="4087800"/>
              <a:ext cx="5970600" cy="781200"/>
              <a:chOff x="5597640" y="4087800"/>
              <a:chExt cx="5970600" cy="781200"/>
            </a:xfrm>
          </p:grpSpPr>
          <p:grpSp>
            <p:nvGrpSpPr>
              <p:cNvPr id="86" name="组合 28"/>
              <p:cNvGrpSpPr/>
              <p:nvPr/>
            </p:nvGrpSpPr>
            <p:grpSpPr>
              <a:xfrm>
                <a:off x="5988240" y="4165920"/>
                <a:ext cx="5580000" cy="624960"/>
                <a:chOff x="5988240" y="4165920"/>
                <a:chExt cx="5580000" cy="624960"/>
              </a:xfrm>
            </p:grpSpPr>
            <p:sp>
              <p:nvSpPr>
                <p:cNvPr id="87" name="矩形 36"/>
                <p:cNvSpPr/>
                <p:nvPr/>
              </p:nvSpPr>
              <p:spPr>
                <a:xfrm>
                  <a:off x="5988240" y="4165920"/>
                  <a:ext cx="5580000" cy="62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0f0f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dddddd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矩形 37"/>
                <p:cNvSpPr/>
                <p:nvPr/>
              </p:nvSpPr>
              <p:spPr>
                <a:xfrm>
                  <a:off x="5988240" y="4165920"/>
                  <a:ext cx="5580000" cy="62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96080" rIns="60840" tIns="60840" bIns="6084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0" lang="zh-CN" sz="2400" spc="-1" strike="noStrike">
                      <a:solidFill>
                        <a:srgbClr val="646464"/>
                      </a:solidFill>
                      <a:latin typeface="Calibri"/>
                      <a:ea typeface="微软雅黑"/>
                    </a:rPr>
                    <a:t>单击此处添加文字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矩形 38"/>
                <p:cNvSpPr/>
                <p:nvPr/>
              </p:nvSpPr>
              <p:spPr>
                <a:xfrm>
                  <a:off x="6031800" y="4195080"/>
                  <a:ext cx="5536440" cy="56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组合 29"/>
              <p:cNvGrpSpPr/>
              <p:nvPr/>
            </p:nvGrpSpPr>
            <p:grpSpPr>
              <a:xfrm>
                <a:off x="5597640" y="4087800"/>
                <a:ext cx="781200" cy="781200"/>
                <a:chOff x="5597640" y="4087800"/>
                <a:chExt cx="781200" cy="781200"/>
              </a:xfrm>
            </p:grpSpPr>
            <p:sp>
              <p:nvSpPr>
                <p:cNvPr id="91" name="椭圆 34"/>
                <p:cNvSpPr/>
                <p:nvPr/>
              </p:nvSpPr>
              <p:spPr>
                <a:xfrm>
                  <a:off x="5597640" y="4087800"/>
                  <a:ext cx="781200" cy="781200"/>
                </a:xfrm>
                <a:prstGeom prst="ellipse">
                  <a:avLst/>
                </a:prstGeom>
                <a:solidFill>
                  <a:srgbClr val="ff9300"/>
                </a:solidFill>
                <a:ln w="9360">
                  <a:solidFill>
                    <a:srgbClr val="ff9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Impact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未知"/>
                <p:cNvSpPr/>
                <p:nvPr/>
              </p:nvSpPr>
              <p:spPr>
                <a:xfrm>
                  <a:off x="5676840" y="4103640"/>
                  <a:ext cx="614520" cy="299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Rectangle 38"/>
            <p:cNvSpPr/>
            <p:nvPr/>
          </p:nvSpPr>
          <p:spPr>
            <a:xfrm>
              <a:off x="6645240" y="4155840"/>
              <a:ext cx="47959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46464"/>
                  </a:solidFill>
                  <a:latin typeface="Calibri"/>
                  <a:ea typeface="微软雅黑"/>
                </a:rPr>
                <a:t>目标管理实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39"/>
          <p:cNvSpPr/>
          <p:nvPr/>
        </p:nvSpPr>
        <p:spPr>
          <a:xfrm>
            <a:off x="9637560" y="345960"/>
            <a:ext cx="20034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录页 </a:t>
            </a:r>
            <a:r>
              <a:rPr b="1" lang="en-US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CONTENTS 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15"/>
          <p:cNvGrpSpPr/>
          <p:nvPr/>
        </p:nvGrpSpPr>
        <p:grpSpPr>
          <a:xfrm>
            <a:off x="5950080" y="3149640"/>
            <a:ext cx="5618160" cy="780840"/>
            <a:chOff x="5950080" y="3149640"/>
            <a:chExt cx="5618160" cy="780840"/>
          </a:xfrm>
        </p:grpSpPr>
        <p:grpSp>
          <p:nvGrpSpPr>
            <p:cNvPr id="96" name="组合 16"/>
            <p:cNvGrpSpPr/>
            <p:nvPr/>
          </p:nvGrpSpPr>
          <p:grpSpPr>
            <a:xfrm>
              <a:off x="5950080" y="3149640"/>
              <a:ext cx="5618160" cy="780840"/>
              <a:chOff x="5950080" y="3149640"/>
              <a:chExt cx="5618160" cy="780840"/>
            </a:xfrm>
          </p:grpSpPr>
          <p:grpSp>
            <p:nvGrpSpPr>
              <p:cNvPr id="97" name="组合 18"/>
              <p:cNvGrpSpPr/>
              <p:nvPr/>
            </p:nvGrpSpPr>
            <p:grpSpPr>
              <a:xfrm>
                <a:off x="6340680" y="3227760"/>
                <a:ext cx="5227560" cy="624600"/>
                <a:chOff x="6340680" y="3227760"/>
                <a:chExt cx="5227560" cy="624600"/>
              </a:xfrm>
            </p:grpSpPr>
            <p:sp>
              <p:nvSpPr>
                <p:cNvPr id="98" name="矩形 26"/>
                <p:cNvSpPr/>
                <p:nvPr/>
              </p:nvSpPr>
              <p:spPr>
                <a:xfrm>
                  <a:off x="6340680" y="3227760"/>
                  <a:ext cx="5227560" cy="62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0f0f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dddddd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矩形 27"/>
                <p:cNvSpPr/>
                <p:nvPr/>
              </p:nvSpPr>
              <p:spPr>
                <a:xfrm>
                  <a:off x="6340680" y="3227760"/>
                  <a:ext cx="522756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96080" rIns="60840" tIns="60840" bIns="6084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0" lang="zh-CN" sz="2400" spc="-1" strike="noStrike">
                      <a:solidFill>
                        <a:srgbClr val="646464"/>
                      </a:solidFill>
                      <a:latin typeface="Calibri"/>
                      <a:ea typeface="微软雅黑"/>
                    </a:rPr>
                    <a:t>单击此处添加文字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矩形 28"/>
                <p:cNvSpPr/>
                <p:nvPr/>
              </p:nvSpPr>
              <p:spPr>
                <a:xfrm>
                  <a:off x="6384240" y="3256560"/>
                  <a:ext cx="5184000" cy="55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组合 19"/>
              <p:cNvGrpSpPr/>
              <p:nvPr/>
            </p:nvGrpSpPr>
            <p:grpSpPr>
              <a:xfrm>
                <a:off x="5950080" y="3149640"/>
                <a:ext cx="781560" cy="780840"/>
                <a:chOff x="5950080" y="3149640"/>
                <a:chExt cx="781560" cy="780840"/>
              </a:xfrm>
            </p:grpSpPr>
            <p:sp>
              <p:nvSpPr>
                <p:cNvPr id="102" name="椭圆 24"/>
                <p:cNvSpPr/>
                <p:nvPr/>
              </p:nvSpPr>
              <p:spPr>
                <a:xfrm>
                  <a:off x="5950080" y="3149640"/>
                  <a:ext cx="781560" cy="780840"/>
                </a:xfrm>
                <a:prstGeom prst="ellipse">
                  <a:avLst/>
                </a:prstGeom>
                <a:solidFill>
                  <a:srgbClr val="ff9300"/>
                </a:solidFill>
                <a:ln w="9360">
                  <a:solidFill>
                    <a:srgbClr val="ff9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Impact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未知"/>
                <p:cNvSpPr/>
                <p:nvPr/>
              </p:nvSpPr>
              <p:spPr>
                <a:xfrm>
                  <a:off x="6029280" y="3165480"/>
                  <a:ext cx="614880" cy="299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Rectangle 38"/>
            <p:cNvSpPr/>
            <p:nvPr/>
          </p:nvSpPr>
          <p:spPr>
            <a:xfrm>
              <a:off x="6959520" y="3217680"/>
              <a:ext cx="460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46464"/>
                  </a:solidFill>
                  <a:latin typeface="Calibri"/>
                  <a:ea typeface="微软雅黑"/>
                </a:rPr>
                <a:t>目标管理概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4"/>
          <p:cNvGrpSpPr/>
          <p:nvPr/>
        </p:nvGrpSpPr>
        <p:grpSpPr>
          <a:xfrm>
            <a:off x="5597640" y="2211480"/>
            <a:ext cx="5970600" cy="782640"/>
            <a:chOff x="5597640" y="2211480"/>
            <a:chExt cx="5970600" cy="782640"/>
          </a:xfrm>
        </p:grpSpPr>
        <p:grpSp>
          <p:nvGrpSpPr>
            <p:cNvPr id="106" name="组合 5"/>
            <p:cNvGrpSpPr/>
            <p:nvPr/>
          </p:nvGrpSpPr>
          <p:grpSpPr>
            <a:xfrm>
              <a:off x="5597640" y="2211480"/>
              <a:ext cx="5970600" cy="782640"/>
              <a:chOff x="5597640" y="2211480"/>
              <a:chExt cx="5970600" cy="782640"/>
            </a:xfrm>
          </p:grpSpPr>
          <p:grpSp>
            <p:nvGrpSpPr>
              <p:cNvPr id="107" name="组合 8"/>
              <p:cNvGrpSpPr/>
              <p:nvPr/>
            </p:nvGrpSpPr>
            <p:grpSpPr>
              <a:xfrm>
                <a:off x="5988240" y="2289600"/>
                <a:ext cx="5580000" cy="626040"/>
                <a:chOff x="5988240" y="2289600"/>
                <a:chExt cx="5580000" cy="626040"/>
              </a:xfrm>
            </p:grpSpPr>
            <p:sp>
              <p:nvSpPr>
                <p:cNvPr id="108" name="矩形 16"/>
                <p:cNvSpPr/>
                <p:nvPr/>
              </p:nvSpPr>
              <p:spPr>
                <a:xfrm>
                  <a:off x="5988240" y="2289600"/>
                  <a:ext cx="5580000" cy="626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0f0f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dddddd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矩形 17"/>
                <p:cNvSpPr/>
                <p:nvPr/>
              </p:nvSpPr>
              <p:spPr>
                <a:xfrm>
                  <a:off x="5988240" y="2289600"/>
                  <a:ext cx="5580000" cy="6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96080" rIns="60840" tIns="60840" bIns="6084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0" lang="zh-CN" sz="2400" spc="-1" strike="noStrike">
                      <a:solidFill>
                        <a:srgbClr val="646464"/>
                      </a:solidFill>
                      <a:latin typeface="Calibri"/>
                      <a:ea typeface="微软雅黑"/>
                    </a:rPr>
                    <a:t>单击此处添加文字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矩形 18"/>
                <p:cNvSpPr/>
                <p:nvPr/>
              </p:nvSpPr>
              <p:spPr>
                <a:xfrm>
                  <a:off x="6031800" y="2318760"/>
                  <a:ext cx="5536440" cy="56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组合 9"/>
              <p:cNvGrpSpPr/>
              <p:nvPr/>
            </p:nvGrpSpPr>
            <p:grpSpPr>
              <a:xfrm>
                <a:off x="5597640" y="2211480"/>
                <a:ext cx="781200" cy="782640"/>
                <a:chOff x="5597640" y="2211480"/>
                <a:chExt cx="781200" cy="782640"/>
              </a:xfrm>
            </p:grpSpPr>
            <p:sp>
              <p:nvSpPr>
                <p:cNvPr id="112" name="椭圆 14"/>
                <p:cNvSpPr/>
                <p:nvPr/>
              </p:nvSpPr>
              <p:spPr>
                <a:xfrm>
                  <a:off x="5597640" y="2211480"/>
                  <a:ext cx="781200" cy="782640"/>
                </a:xfrm>
                <a:prstGeom prst="ellipse">
                  <a:avLst/>
                </a:prstGeom>
                <a:solidFill>
                  <a:srgbClr val="ff9300"/>
                </a:solidFill>
                <a:ln w="9360">
                  <a:solidFill>
                    <a:srgbClr val="ff9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Impact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未知"/>
                <p:cNvSpPr/>
                <p:nvPr/>
              </p:nvSpPr>
              <p:spPr>
                <a:xfrm>
                  <a:off x="5676840" y="2227320"/>
                  <a:ext cx="614520" cy="299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" name="Rectangle 38"/>
            <p:cNvSpPr/>
            <p:nvPr/>
          </p:nvSpPr>
          <p:spPr>
            <a:xfrm>
              <a:off x="6645240" y="2279520"/>
              <a:ext cx="47959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46464"/>
                  </a:solidFill>
                  <a:latin typeface="Calibri"/>
                  <a:ea typeface="微软雅黑"/>
                </a:rPr>
                <a:t>目标知识概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http://www.asiatu.com/uploads/Photo/201109/17/asia71864201109171019371.jpg"/>
          <p:cNvPicPr/>
          <p:nvPr/>
        </p:nvPicPr>
        <p:blipFill>
          <a:blip r:embed="rId2"/>
          <a:stretch/>
        </p:blipFill>
        <p:spPr>
          <a:xfrm>
            <a:off x="263520" y="1125360"/>
            <a:ext cx="5111640" cy="4658040"/>
          </a:xfrm>
          <a:prstGeom prst="rect">
            <a:avLst/>
          </a:prstGeom>
          <a:ln w="0">
            <a:noFill/>
          </a:ln>
        </p:spPr>
      </p:pic>
      <p:sp>
        <p:nvSpPr>
          <p:cNvPr id="116" name="空心弧 5"/>
          <p:cNvSpPr/>
          <p:nvPr/>
        </p:nvSpPr>
        <p:spPr>
          <a:xfrm>
            <a:off x="766800" y="836640"/>
            <a:ext cx="5473800" cy="5473800"/>
          </a:xfrm>
          <a:custGeom>
            <a:avLst/>
            <a:gdLst/>
            <a:ahLst/>
            <a:rect l="l" t="t" r="r" b="b"/>
            <a:pathLst>
              <a:path w="5473700" h="5473700">
                <a:moveTo>
                  <a:pt x="4672095" y="801604"/>
                </a:moveTo>
                <a:cubicBezTo>
                  <a:pt x="5167368" y="1296876"/>
                  <a:pt x="5473700" y="1981089"/>
                  <a:pt x="5473700" y="2736849"/>
                </a:cubicBezTo>
                <a:cubicBezTo>
                  <a:pt x="5473700" y="3492609"/>
                  <a:pt x="5167368" y="4176822"/>
                  <a:pt x="4672095" y="4672094"/>
                </a:cubicBezTo>
                <a:lnTo>
                  <a:pt x="4656806" y="4656806"/>
                </a:lnTo>
                <a:cubicBezTo>
                  <a:pt x="5148166" y="4165447"/>
                  <a:pt x="5452078" y="3486640"/>
                  <a:pt x="5452078" y="2736850"/>
                </a:cubicBezTo>
                <a:cubicBezTo>
                  <a:pt x="5452078" y="1987060"/>
                  <a:pt x="5148166" y="1308253"/>
                  <a:pt x="4656806" y="816894"/>
                </a:cubicBezTo>
                <a:close/>
              </a:path>
            </a:pathLst>
          </a:custGeom>
          <a:solidFill>
            <a:srgbClr val="46a7de"/>
          </a:solidFill>
          <a:ln w="25560">
            <a:solidFill>
              <a:srgbClr val="ff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4"/>
          <p:cNvSpPr/>
          <p:nvPr/>
        </p:nvSpPr>
        <p:spPr>
          <a:xfrm>
            <a:off x="9637560" y="345960"/>
            <a:ext cx="20034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过渡页 </a:t>
            </a:r>
            <a:r>
              <a:rPr b="1" lang="en-US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TRANSITION 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0" y="3338640"/>
            <a:ext cx="2735280" cy="1807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2735280" y="3338640"/>
            <a:ext cx="9456840" cy="18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52FDE106-B05C-41B7-B62B-0A4876D1D27B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977760" y="3337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目标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E52B302A-EA1E-4836-8253-2A1AF55B3591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977760" y="3337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目标管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C86A3442-E997-4CC4-9521-2ED0B8B657B5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977760" y="3337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目标管理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Documents and Settings\t11318\桌面\a1dd46e0cba5b4aaf44531ed41909fdd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F:\360云盘\02-个人资料\！PPT图片及版面资源\05-PPT精选插图\02-商务类\01-商务综合\download11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1"/>
          <p:cNvSpPr/>
          <p:nvPr/>
        </p:nvSpPr>
        <p:spPr>
          <a:xfrm>
            <a:off x="982800" y="1628640"/>
            <a:ext cx="6553080" cy="5050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6"/>
          <p:cNvSpPr/>
          <p:nvPr/>
        </p:nvSpPr>
        <p:spPr>
          <a:xfrm>
            <a:off x="1015920" y="1681200"/>
            <a:ext cx="60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④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清晰可见，焕发激情，激发潜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4"/>
          <p:cNvSpPr/>
          <p:nvPr/>
        </p:nvSpPr>
        <p:spPr>
          <a:xfrm>
            <a:off x="977760" y="2327400"/>
            <a:ext cx="56944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谁叫醒了我们的灵魂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每天一觉醒来，我们的身体醒了，但灵魂未必能醒，</a:t>
            </a: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能让灵魂苏醒的是目标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C:\Users\user\Desktop\shangwusx273.JPG"/>
          <p:cNvPicPr/>
          <p:nvPr/>
        </p:nvPicPr>
        <p:blipFill>
          <a:blip r:embed="rId1"/>
          <a:stretch/>
        </p:blipFill>
        <p:spPr>
          <a:xfrm>
            <a:off x="7535880" y="1171440"/>
            <a:ext cx="4105080" cy="535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75" name="矩形 8"/>
          <p:cNvSpPr/>
          <p:nvPr/>
        </p:nvSpPr>
        <p:spPr>
          <a:xfrm>
            <a:off x="982800" y="3718080"/>
            <a:ext cx="6553080" cy="2546280"/>
          </a:xfrm>
          <a:prstGeom prst="rect">
            <a:avLst/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4"/>
          <p:cNvSpPr/>
          <p:nvPr/>
        </p:nvSpPr>
        <p:spPr>
          <a:xfrm>
            <a:off x="1244520" y="4071960"/>
            <a:ext cx="614700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国波士顿塞尔提克篮球队的传奇人物（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ill.Russell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有保留自己评分卡的习惯。他在打完每一场球之后，用一张满分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的评分卡为自己评分。在他的篮球生涯中，他从来没有得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以上。很多人说：“可怜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ussell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打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场的球赛，从来没有达到过自己的标准！”然而，就因为他拼命要达到自己的标准，他成了最杰出的篮球运动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虚尾箭头 7"/>
          <p:cNvSpPr/>
          <p:nvPr/>
        </p:nvSpPr>
        <p:spPr>
          <a:xfrm>
            <a:off x="1127160" y="3263760"/>
            <a:ext cx="10585440" cy="1149480"/>
          </a:xfrm>
          <a:custGeom>
            <a:avLst/>
            <a:gdLst/>
            <a:ahLst/>
            <a:rect l="l" t="t" r="r" b="b"/>
            <a:pathLst>
              <a:path w="10585450" h="1149350">
                <a:moveTo>
                  <a:pt x="0" y="287337"/>
                </a:moveTo>
                <a:lnTo>
                  <a:pt x="35917" y="287337"/>
                </a:lnTo>
                <a:lnTo>
                  <a:pt x="35917" y="862012"/>
                </a:lnTo>
                <a:lnTo>
                  <a:pt x="0" y="862012"/>
                </a:lnTo>
                <a:close/>
                <a:moveTo>
                  <a:pt x="71834" y="287337"/>
                </a:moveTo>
                <a:lnTo>
                  <a:pt x="143668" y="287337"/>
                </a:lnTo>
                <a:lnTo>
                  <a:pt x="143668" y="862012"/>
                </a:lnTo>
                <a:lnTo>
                  <a:pt x="71834" y="862012"/>
                </a:lnTo>
                <a:close/>
                <a:moveTo>
                  <a:pt x="179585" y="287337"/>
                </a:moveTo>
                <a:lnTo>
                  <a:pt x="10010775" y="287337"/>
                </a:lnTo>
                <a:lnTo>
                  <a:pt x="10010775" y="0"/>
                </a:lnTo>
                <a:lnTo>
                  <a:pt x="10585450" y="574675"/>
                </a:lnTo>
                <a:lnTo>
                  <a:pt x="10010775" y="1149350"/>
                </a:lnTo>
                <a:lnTo>
                  <a:pt x="10010775" y="862012"/>
                </a:lnTo>
                <a:lnTo>
                  <a:pt x="179585" y="862012"/>
                </a:ln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3309840" y="1589040"/>
            <a:ext cx="60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⑤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结果为导向，时刻关注目标，少走弯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2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1379520" y="5732640"/>
            <a:ext cx="9540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了明确的目标，我们就会把自己稀缺的时间和精力用到该用的地方去，进而调动所有的能量，挖掘所有的潜力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全力以赴于对目标的追求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F:\TDZ临时\其他备用\！个人PPT作品@teliss\磨练坚强意志-图\FECA5EC22E2D84E3FB3C4EE6CA2641FA.jpg"/>
          <p:cNvPicPr/>
          <p:nvPr/>
        </p:nvPicPr>
        <p:blipFill>
          <a:blip r:embed="rId1"/>
          <a:stretch/>
        </p:blipFill>
        <p:spPr>
          <a:xfrm>
            <a:off x="3214800" y="2133720"/>
            <a:ext cx="6218280" cy="3409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83" name="矩形 1"/>
          <p:cNvSpPr/>
          <p:nvPr/>
        </p:nvSpPr>
        <p:spPr>
          <a:xfrm>
            <a:off x="1760040" y="360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军赶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4"/>
          <p:cNvSpPr/>
          <p:nvPr/>
        </p:nvSpPr>
        <p:spPr>
          <a:xfrm>
            <a:off x="9897480" y="360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追小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F:\360云盘\02-个人资料\！PPT图片及版面资源\05-PPT精选插图\02-商务类\01-商务综合\xpic7384.jpg"/>
          <p:cNvPicPr/>
          <p:nvPr/>
        </p:nvPicPr>
        <p:blipFill>
          <a:blip r:embed="rId1"/>
          <a:stretch/>
        </p:blipFill>
        <p:spPr>
          <a:xfrm>
            <a:off x="2279520" y="3068640"/>
            <a:ext cx="3119400" cy="3119400"/>
          </a:xfrm>
          <a:prstGeom prst="rect">
            <a:avLst/>
          </a:prstGeom>
          <a:ln w="0">
            <a:noFill/>
          </a:ln>
        </p:spPr>
      </p:pic>
      <p:sp>
        <p:nvSpPr>
          <p:cNvPr id="486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3309840" y="1589040"/>
            <a:ext cx="60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⑥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管理的基本出发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9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8"/>
          <p:cNvSpPr/>
          <p:nvPr/>
        </p:nvSpPr>
        <p:spPr>
          <a:xfrm>
            <a:off x="1727280" y="2060640"/>
            <a:ext cx="87375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确立一个清楚正确的目标是科学管理的前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也是组织开展各项工作的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10"/>
          <p:cNvSpPr/>
          <p:nvPr/>
        </p:nvSpPr>
        <p:spPr>
          <a:xfrm>
            <a:off x="5448240" y="4270320"/>
            <a:ext cx="4896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提供了决策的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一切工作的行动指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协调岗位、部门之间关系的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达成度是衡量工作好坏的标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"/>
          <p:cNvSpPr/>
          <p:nvPr/>
        </p:nvSpPr>
        <p:spPr>
          <a:xfrm>
            <a:off x="2968560" y="6226200"/>
            <a:ext cx="69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"/>
          <p:cNvGrpSpPr/>
          <p:nvPr/>
        </p:nvGrpSpPr>
        <p:grpSpPr>
          <a:xfrm>
            <a:off x="3849840" y="2519280"/>
            <a:ext cx="4492440" cy="916920"/>
            <a:chOff x="3849840" y="2519280"/>
            <a:chExt cx="4492440" cy="916920"/>
          </a:xfrm>
        </p:grpSpPr>
        <p:sp>
          <p:nvSpPr>
            <p:cNvPr id="493" name="文本占位符 3"/>
            <p:cNvSpPr/>
            <p:nvPr/>
          </p:nvSpPr>
          <p:spPr>
            <a:xfrm>
              <a:off x="4852080" y="2738160"/>
              <a:ext cx="3490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300"/>
                  </a:solidFill>
                  <a:latin typeface="Calibri"/>
                  <a:ea typeface="微软雅黑"/>
                </a:rPr>
                <a:t>目标管理概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8"/>
            <p:cNvSpPr/>
            <p:nvPr/>
          </p:nvSpPr>
          <p:spPr>
            <a:xfrm>
              <a:off x="3849840" y="2519280"/>
              <a:ext cx="118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95959"/>
                  </a:solidFill>
                  <a:latin typeface="Stencil"/>
                  <a:ea typeface="微软雅黑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矩形 4"/>
          <p:cNvSpPr/>
          <p:nvPr/>
        </p:nvSpPr>
        <p:spPr>
          <a:xfrm>
            <a:off x="4768920" y="3605040"/>
            <a:ext cx="3598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什么是目标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好处及缺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"/>
          <p:cNvPicPr/>
          <p:nvPr/>
        </p:nvPicPr>
        <p:blipFill>
          <a:blip r:embed="rId1"/>
          <a:stretch/>
        </p:blipFill>
        <p:spPr>
          <a:xfrm>
            <a:off x="1260360" y="1712880"/>
            <a:ext cx="2851200" cy="794088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4"/>
          <p:cNvSpPr/>
          <p:nvPr/>
        </p:nvSpPr>
        <p:spPr>
          <a:xfrm>
            <a:off x="4367160" y="2092320"/>
            <a:ext cx="72738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54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德鲁克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管理实践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书中提出了一个具有划时代意义的概念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标管理（</a:t>
            </a:r>
            <a:r>
              <a:rPr b="1" lang="en-US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Management By Objectives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，</a:t>
            </a:r>
            <a:r>
              <a:rPr b="1" lang="en-US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MBO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，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它是德鲁克所发明的最重要、最有影响的概念，并已成为当代管理体系的重要组成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4367160" y="3801960"/>
            <a:ext cx="72738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提出以后，便在美国迅速流传。时值第二次世界大战后西方经济由恢复转向迅速发展的时期，企业急需采用新的方法调动员工积极性以提高竞争能力，目标管理的出现可谓应运而生，遂被广泛应用，并很快为日本、西欧国家的企业所仿效，在世界管理界大行其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4"/>
          <p:cNvSpPr/>
          <p:nvPr/>
        </p:nvSpPr>
        <p:spPr>
          <a:xfrm>
            <a:off x="4800600" y="2060640"/>
            <a:ext cx="66960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国总统布什将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2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度 “总统自由勋章”授予彼得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•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德鲁克，提到他的三大贡献之一就是“</a:t>
            </a: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标管理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4"/>
          <p:cNvSpPr/>
          <p:nvPr/>
        </p:nvSpPr>
        <p:spPr>
          <a:xfrm>
            <a:off x="4800600" y="3809880"/>
            <a:ext cx="66960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惠普公司创始人戴维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•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帕卡德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惠普之道（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e HP Way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说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C:\Documents and Settings\tdz\桌面\2008422102136667.jpg"/>
          <p:cNvPicPr/>
          <p:nvPr/>
        </p:nvPicPr>
        <p:blipFill>
          <a:blip r:embed="rId1"/>
          <a:stretch/>
        </p:blipFill>
        <p:spPr>
          <a:xfrm>
            <a:off x="1096920" y="1947960"/>
            <a:ext cx="3343320" cy="4145040"/>
          </a:xfrm>
          <a:prstGeom prst="rect">
            <a:avLst/>
          </a:prstGeom>
          <a:ln w="2844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04" name="圆角矩形 8"/>
          <p:cNvSpPr/>
          <p:nvPr/>
        </p:nvSpPr>
        <p:spPr>
          <a:xfrm>
            <a:off x="4871880" y="4684680"/>
            <a:ext cx="6553440" cy="1408320"/>
          </a:xfrm>
          <a:prstGeom prst="roundRect">
            <a:avLst>
              <a:gd name="adj" fmla="val 8153"/>
            </a:avLst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073480" y="4800600"/>
            <a:ext cx="6148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任何管理原则比“目标管理”原则对惠普的成功有如此大的贡献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角三角形 10"/>
          <p:cNvSpPr/>
          <p:nvPr/>
        </p:nvSpPr>
        <p:spPr>
          <a:xfrm>
            <a:off x="5664240" y="4508640"/>
            <a:ext cx="372960" cy="176040"/>
          </a:xfrm>
          <a:prstGeom prst="rtTriangle">
            <a:avLst/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什么是目标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C:\Documents and Settings\t11318\桌面\look.com.ua-39310.JPG"/>
          <p:cNvPicPr/>
          <p:nvPr/>
        </p:nvPicPr>
        <p:blipFill>
          <a:blip r:embed="rId1"/>
          <a:stretch/>
        </p:blipFill>
        <p:spPr>
          <a:xfrm>
            <a:off x="6311880" y="3321000"/>
            <a:ext cx="5452920" cy="3067200"/>
          </a:xfrm>
          <a:prstGeom prst="rect">
            <a:avLst/>
          </a:prstGeom>
          <a:ln w="0">
            <a:noFill/>
          </a:ln>
        </p:spPr>
      </p:pic>
      <p:sp>
        <p:nvSpPr>
          <p:cNvPr id="509" name="矩形 11"/>
          <p:cNvSpPr/>
          <p:nvPr/>
        </p:nvSpPr>
        <p:spPr>
          <a:xfrm>
            <a:off x="977760" y="3321000"/>
            <a:ext cx="5334120" cy="306720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2"/>
          <p:cNvSpPr/>
          <p:nvPr/>
        </p:nvSpPr>
        <p:spPr>
          <a:xfrm>
            <a:off x="1200240" y="4681440"/>
            <a:ext cx="4883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如：父亲说：好女儿，如果这学期 你考了班级第一，暑假老爸带你去新马泰！ 女儿说：哇！新马泰！我梦寐以求的，为了奖赏我一定要考全班第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3"/>
          <p:cNvSpPr/>
          <p:nvPr/>
        </p:nvSpPr>
        <p:spPr>
          <a:xfrm>
            <a:off x="1200240" y="3529080"/>
            <a:ext cx="48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实际生活中，我们每一个人都在自觉不自觉地运用着目标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2"/>
          <p:cNvSpPr/>
          <p:nvPr/>
        </p:nvSpPr>
        <p:spPr>
          <a:xfrm>
            <a:off x="977760" y="2060640"/>
            <a:ext cx="10787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亦称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成果管理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”。是指在企业员工的积极参与下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自上而下地确定工作目标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并通过对目标完成情况的检查和奖惩的手段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自下而上地实现公司经营管理目标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种管理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什么是目标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4"/>
          <p:cNvSpPr/>
          <p:nvPr/>
        </p:nvSpPr>
        <p:spPr>
          <a:xfrm>
            <a:off x="2054160" y="1916280"/>
            <a:ext cx="8434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，被誉为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6"/>
          <p:cNvSpPr/>
          <p:nvPr/>
        </p:nvSpPr>
        <p:spPr>
          <a:xfrm>
            <a:off x="2054160" y="4437000"/>
            <a:ext cx="8434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必须建立企业的目标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建立的过程，是一个自上而下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现的过程，是一个自下而上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要通过对目标完成情况的检查和奖惩，来确保目标的实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4"/>
          <p:cNvSpPr/>
          <p:nvPr/>
        </p:nvSpPr>
        <p:spPr>
          <a:xfrm>
            <a:off x="2054160" y="2565360"/>
            <a:ext cx="843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9300"/>
                </a:solidFill>
                <a:latin typeface="微软雅黑"/>
                <a:ea typeface="微软雅黑"/>
              </a:rPr>
              <a:t>企业的导航系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6"/>
          <p:cNvSpPr/>
          <p:nvPr/>
        </p:nvSpPr>
        <p:spPr>
          <a:xfrm>
            <a:off x="2136600" y="2565360"/>
            <a:ext cx="7920360" cy="0"/>
          </a:xfrm>
          <a:prstGeom prst="line">
            <a:avLst/>
          </a:prstGeom>
          <a:ln w="381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18"/>
          <p:cNvSpPr/>
          <p:nvPr/>
        </p:nvSpPr>
        <p:spPr>
          <a:xfrm>
            <a:off x="2136600" y="4005360"/>
            <a:ext cx="7920360" cy="0"/>
          </a:xfrm>
          <a:prstGeom prst="line">
            <a:avLst/>
          </a:prstGeom>
          <a:ln w="381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3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好处和缺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11"/>
          <p:cNvSpPr/>
          <p:nvPr/>
        </p:nvSpPr>
        <p:spPr>
          <a:xfrm>
            <a:off x="977760" y="3645000"/>
            <a:ext cx="5334120" cy="274320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2"/>
          <p:cNvSpPr/>
          <p:nvPr/>
        </p:nvSpPr>
        <p:spPr>
          <a:xfrm>
            <a:off x="1200240" y="3933720"/>
            <a:ext cx="48830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提高管理效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有助于组织机构改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有助于形成“自动自发”的工作局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激励员工完成目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实现有效的监督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有利于客观评价员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"/>
          <p:cNvSpPr/>
          <p:nvPr/>
        </p:nvSpPr>
        <p:spPr>
          <a:xfrm>
            <a:off x="6311880" y="3645000"/>
            <a:ext cx="5334120" cy="274320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8"/>
          <p:cNvSpPr/>
          <p:nvPr/>
        </p:nvSpPr>
        <p:spPr>
          <a:xfrm>
            <a:off x="1704960" y="2630520"/>
            <a:ext cx="387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</a:t>
            </a:r>
            <a:r>
              <a:rPr b="1" lang="zh-CN" sz="4400" spc="-1" strike="noStrike">
                <a:solidFill>
                  <a:srgbClr val="ff9300"/>
                </a:solidFill>
                <a:latin typeface="微软雅黑"/>
                <a:ea typeface="微软雅黑"/>
              </a:rPr>
              <a:t>好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9"/>
          <p:cNvSpPr/>
          <p:nvPr/>
        </p:nvSpPr>
        <p:spPr>
          <a:xfrm>
            <a:off x="7039080" y="2630520"/>
            <a:ext cx="38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</a:t>
            </a: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缺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6537240" y="3971880"/>
            <a:ext cx="48834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目标难以制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目标管理的哲学假设不一定都存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目标商定可能增加管理成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没有绝对客观、公正的奖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往往强调短期目标而忽略长期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关注自身目标而忽略整体，助长本位主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组合 1"/>
          <p:cNvGrpSpPr/>
          <p:nvPr/>
        </p:nvGrpSpPr>
        <p:grpSpPr>
          <a:xfrm>
            <a:off x="3849840" y="2519280"/>
            <a:ext cx="4492440" cy="916920"/>
            <a:chOff x="3849840" y="2519280"/>
            <a:chExt cx="4492440" cy="916920"/>
          </a:xfrm>
        </p:grpSpPr>
        <p:sp>
          <p:nvSpPr>
            <p:cNvPr id="527" name="文本占位符 3"/>
            <p:cNvSpPr/>
            <p:nvPr/>
          </p:nvSpPr>
          <p:spPr>
            <a:xfrm>
              <a:off x="4852080" y="2738160"/>
              <a:ext cx="3490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300"/>
                  </a:solidFill>
                  <a:latin typeface="Calibri"/>
                  <a:ea typeface="微软雅黑"/>
                </a:rPr>
                <a:t>目标管理实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8"/>
            <p:cNvSpPr/>
            <p:nvPr/>
          </p:nvSpPr>
          <p:spPr>
            <a:xfrm>
              <a:off x="3849840" y="2519280"/>
              <a:ext cx="118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95959"/>
                  </a:solidFill>
                  <a:latin typeface="Stencil"/>
                  <a:ea typeface="微软雅黑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"/>
          <p:cNvSpPr/>
          <p:nvPr/>
        </p:nvSpPr>
        <p:spPr>
          <a:xfrm>
            <a:off x="4768920" y="360504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施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检查实施结果及奖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"/>
          <p:cNvSpPr/>
          <p:nvPr/>
        </p:nvSpPr>
        <p:spPr>
          <a:xfrm>
            <a:off x="2073240" y="5803920"/>
            <a:ext cx="82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1"/>
          <p:cNvSpPr/>
          <p:nvPr/>
        </p:nvSpPr>
        <p:spPr>
          <a:xfrm>
            <a:off x="3403440" y="5896080"/>
            <a:ext cx="69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2"/>
          <p:cNvSpPr/>
          <p:nvPr/>
        </p:nvSpPr>
        <p:spPr>
          <a:xfrm>
            <a:off x="2063880" y="1984320"/>
            <a:ext cx="8496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300"/>
                </a:solidFill>
                <a:latin typeface="微软雅黑"/>
                <a:ea typeface="微软雅黑"/>
              </a:rPr>
              <a:t>先有目标，才有工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一个领域没有目标，这个领域的工作必然被忽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圆角矩形 3"/>
          <p:cNvSpPr/>
          <p:nvPr/>
        </p:nvSpPr>
        <p:spPr>
          <a:xfrm>
            <a:off x="2171880" y="4578480"/>
            <a:ext cx="8280360" cy="1371600"/>
          </a:xfrm>
          <a:prstGeom prst="roundRect">
            <a:avLst>
              <a:gd name="adj" fmla="val 4644"/>
            </a:avLst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2279520" y="472428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管理者最重要的两件事：①为团队设定目标；②围绕目标对团队进行辅导和激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2"/>
          <p:cNvSpPr/>
          <p:nvPr/>
        </p:nvSpPr>
        <p:spPr>
          <a:xfrm>
            <a:off x="1847880" y="2038320"/>
            <a:ext cx="8496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来自于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圆角矩形 5"/>
          <p:cNvSpPr/>
          <p:nvPr/>
        </p:nvSpPr>
        <p:spPr>
          <a:xfrm>
            <a:off x="4906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F:\360云盘\02-个人资料\！PPT图片及版面资源\05-PPT精选插图\03-小图类\02-win8\Others\White\MB_0007_book.png"/>
          <p:cNvPicPr/>
          <p:nvPr/>
        </p:nvPicPr>
        <p:blipFill>
          <a:blip r:embed="rId1"/>
          <a:stretch/>
        </p:blipFill>
        <p:spPr>
          <a:xfrm>
            <a:off x="66996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539" name="TextBox 6"/>
          <p:cNvSpPr/>
          <p:nvPr/>
        </p:nvSpPr>
        <p:spPr>
          <a:xfrm>
            <a:off x="9345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9"/>
          <p:cNvSpPr/>
          <p:nvPr/>
        </p:nvSpPr>
        <p:spPr>
          <a:xfrm>
            <a:off x="238932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0"/>
          <p:cNvSpPr/>
          <p:nvPr/>
        </p:nvSpPr>
        <p:spPr>
          <a:xfrm>
            <a:off x="428796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11"/>
          <p:cNvSpPr/>
          <p:nvPr/>
        </p:nvSpPr>
        <p:spPr>
          <a:xfrm>
            <a:off x="618660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2"/>
          <p:cNvSpPr/>
          <p:nvPr/>
        </p:nvSpPr>
        <p:spPr>
          <a:xfrm>
            <a:off x="808524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99838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4"/>
          <p:cNvSpPr/>
          <p:nvPr/>
        </p:nvSpPr>
        <p:spPr>
          <a:xfrm>
            <a:off x="283320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5"/>
          <p:cNvSpPr/>
          <p:nvPr/>
        </p:nvSpPr>
        <p:spPr>
          <a:xfrm>
            <a:off x="473184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F:\360云盘\02-个人资料\！PPT图片及版面资源\05-PPT精选插图\03-小图类\02-win8\Others\White\MB_0003_Favs1.png"/>
          <p:cNvPicPr/>
          <p:nvPr/>
        </p:nvPicPr>
        <p:blipFill>
          <a:blip r:embed="rId2"/>
          <a:stretch/>
        </p:blipFill>
        <p:spPr>
          <a:xfrm>
            <a:off x="446868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F:\360云盘\02-个人资料\！PPT图片及版面资源\05-PPT精选插图\03-小图类\02-win8\Others\White\MB_0006_calculator.png"/>
          <p:cNvPicPr/>
          <p:nvPr/>
        </p:nvPicPr>
        <p:blipFill>
          <a:blip r:embed="rId3"/>
          <a:stretch/>
        </p:blipFill>
        <p:spPr>
          <a:xfrm>
            <a:off x="2570040" y="34545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1"/>
          <p:cNvSpPr/>
          <p:nvPr/>
        </p:nvSpPr>
        <p:spPr>
          <a:xfrm>
            <a:off x="663048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2"/>
          <p:cNvSpPr/>
          <p:nvPr/>
        </p:nvSpPr>
        <p:spPr>
          <a:xfrm>
            <a:off x="852912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104277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0" descr="F:\360云盘\02-个人资料\！PPT图片及版面资源\05-PPT精选插图\03-小图类\02-win8\Network\white\MS_0000s_0036_search.png"/>
          <p:cNvPicPr/>
          <p:nvPr/>
        </p:nvPicPr>
        <p:blipFill>
          <a:blip r:embed="rId4"/>
          <a:stretch/>
        </p:blipFill>
        <p:spPr>
          <a:xfrm>
            <a:off x="826596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2" descr="F:\360云盘\02-个人资料\！PPT图片及版面资源\05-PPT精选插图\03-小图类\02-win8\System\White\MB_0005_sett_small.png"/>
          <p:cNvPicPr/>
          <p:nvPr/>
        </p:nvPicPr>
        <p:blipFill>
          <a:blip r:embed="rId5"/>
          <a:stretch/>
        </p:blipFill>
        <p:spPr>
          <a:xfrm>
            <a:off x="636732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5" descr="F:\360云盘\02-个人资料\！PPT图片及版面资源\05-PPT精选插图\03-小图类\02-win8\System\White\MB_0022_tok.png"/>
          <p:cNvPicPr/>
          <p:nvPr/>
        </p:nvPicPr>
        <p:blipFill>
          <a:blip r:embed="rId6"/>
          <a:stretch/>
        </p:blipFill>
        <p:spPr>
          <a:xfrm>
            <a:off x="10164600" y="34545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3"/>
          <p:cNvSpPr/>
          <p:nvPr/>
        </p:nvSpPr>
        <p:spPr>
          <a:xfrm>
            <a:off x="2443320" y="6054840"/>
            <a:ext cx="85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2"/>
          <p:cNvSpPr/>
          <p:nvPr/>
        </p:nvSpPr>
        <p:spPr>
          <a:xfrm>
            <a:off x="1438200" y="1557360"/>
            <a:ext cx="996012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们可以采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SC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各维度，并结合上述的六个导向，来设定目标。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SC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关注：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内部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外部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现在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将来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让目标更均衡、完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组合 33" descr=""/>
          <p:cNvPicPr/>
          <p:nvPr/>
        </p:nvPicPr>
        <p:blipFill>
          <a:blip r:embed="rId1"/>
          <a:stretch/>
        </p:blipFill>
        <p:spPr>
          <a:xfrm>
            <a:off x="5248440" y="3635280"/>
            <a:ext cx="2463480" cy="1965600"/>
          </a:xfrm>
          <a:prstGeom prst="rect">
            <a:avLst/>
          </a:prstGeom>
          <a:ln w="0">
            <a:noFill/>
          </a:ln>
        </p:spPr>
      </p:pic>
      <p:pic>
        <p:nvPicPr>
          <p:cNvPr id="559" name="组合 35" descr=""/>
          <p:cNvPicPr/>
          <p:nvPr/>
        </p:nvPicPr>
        <p:blipFill>
          <a:blip r:embed="rId2"/>
          <a:stretch/>
        </p:blipFill>
        <p:spPr>
          <a:xfrm>
            <a:off x="2836800" y="2949480"/>
            <a:ext cx="2324160" cy="1228680"/>
          </a:xfrm>
          <a:prstGeom prst="rect">
            <a:avLst/>
          </a:prstGeom>
          <a:ln w="0">
            <a:noFill/>
          </a:ln>
        </p:spPr>
      </p:pic>
      <p:pic>
        <p:nvPicPr>
          <p:cNvPr id="560" name="组合 41" descr=""/>
          <p:cNvPicPr/>
          <p:nvPr/>
        </p:nvPicPr>
        <p:blipFill>
          <a:blip r:embed="rId3"/>
          <a:stretch/>
        </p:blipFill>
        <p:spPr>
          <a:xfrm>
            <a:off x="7792920" y="5018040"/>
            <a:ext cx="2320920" cy="1300320"/>
          </a:xfrm>
          <a:prstGeom prst="rect">
            <a:avLst/>
          </a:prstGeom>
          <a:ln w="0">
            <a:noFill/>
          </a:ln>
        </p:spPr>
      </p:pic>
      <p:pic>
        <p:nvPicPr>
          <p:cNvPr id="561" name="组合 47" descr=""/>
          <p:cNvPicPr/>
          <p:nvPr/>
        </p:nvPicPr>
        <p:blipFill>
          <a:blip r:embed="rId4"/>
          <a:stretch/>
        </p:blipFill>
        <p:spPr>
          <a:xfrm>
            <a:off x="7780320" y="2873520"/>
            <a:ext cx="2357280" cy="1228680"/>
          </a:xfrm>
          <a:prstGeom prst="rect">
            <a:avLst/>
          </a:prstGeom>
          <a:ln w="0">
            <a:noFill/>
          </a:ln>
        </p:spPr>
      </p:pic>
      <p:pic>
        <p:nvPicPr>
          <p:cNvPr id="562" name="组合 53" descr=""/>
          <p:cNvPicPr/>
          <p:nvPr/>
        </p:nvPicPr>
        <p:blipFill>
          <a:blip r:embed="rId5"/>
          <a:stretch/>
        </p:blipFill>
        <p:spPr>
          <a:xfrm>
            <a:off x="2827440" y="5018040"/>
            <a:ext cx="2320920" cy="1300320"/>
          </a:xfrm>
          <a:prstGeom prst="rect">
            <a:avLst/>
          </a:prstGeom>
          <a:ln w="0">
            <a:noFill/>
          </a:ln>
        </p:spPr>
      </p:pic>
      <p:sp>
        <p:nvSpPr>
          <p:cNvPr id="563" name="空心弧 55"/>
          <p:cNvSpPr/>
          <p:nvPr/>
        </p:nvSpPr>
        <p:spPr>
          <a:xfrm>
            <a:off x="5497560" y="2676600"/>
            <a:ext cx="1857240" cy="500040"/>
          </a:xfrm>
          <a:custGeom>
            <a:avLst/>
            <a:gdLst/>
            <a:ahLst/>
            <a:rect l="l" t="t" r="r" b="b"/>
            <a:pathLst>
              <a:path w="1857375" h="500062">
                <a:moveTo>
                  <a:pt x="0" y="250031"/>
                </a:moveTo>
                <a:cubicBezTo>
                  <a:pt x="0" y="111943"/>
                  <a:pt x="415787" y="0"/>
                  <a:pt x="928687" y="0"/>
                </a:cubicBezTo>
                <a:cubicBezTo>
                  <a:pt x="1441587" y="0"/>
                  <a:pt x="1857374" y="111943"/>
                  <a:pt x="1857374" y="250031"/>
                </a:cubicBezTo>
                <a:lnTo>
                  <a:pt x="1732359" y="250031"/>
                </a:lnTo>
                <a:cubicBezTo>
                  <a:pt x="1732359" y="180987"/>
                  <a:pt x="1372543" y="125016"/>
                  <a:pt x="928688" y="125016"/>
                </a:cubicBezTo>
                <a:cubicBezTo>
                  <a:pt x="484833" y="125016"/>
                  <a:pt x="125017" y="180987"/>
                  <a:pt x="125017" y="250031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空心弧 56"/>
          <p:cNvSpPr/>
          <p:nvPr/>
        </p:nvSpPr>
        <p:spPr>
          <a:xfrm flipV="1">
            <a:off x="5497560" y="5961960"/>
            <a:ext cx="1857240" cy="490680"/>
          </a:xfrm>
          <a:custGeom>
            <a:avLst/>
            <a:gdLst/>
            <a:ahLst/>
            <a:rect l="l" t="t" r="r" b="b"/>
            <a:pathLst>
              <a:path w="1857375" h="490537">
                <a:moveTo>
                  <a:pt x="0" y="245268"/>
                </a:moveTo>
                <a:cubicBezTo>
                  <a:pt x="0" y="109810"/>
                  <a:pt x="415787" y="0"/>
                  <a:pt x="928687" y="0"/>
                </a:cubicBezTo>
                <a:cubicBezTo>
                  <a:pt x="1441587" y="0"/>
                  <a:pt x="1857374" y="109810"/>
                  <a:pt x="1857374" y="245268"/>
                </a:cubicBezTo>
                <a:lnTo>
                  <a:pt x="1734740" y="245268"/>
                </a:lnTo>
                <a:cubicBezTo>
                  <a:pt x="1734740" y="177539"/>
                  <a:pt x="1373858" y="122634"/>
                  <a:pt x="928687" y="122634"/>
                </a:cubicBezTo>
                <a:cubicBezTo>
                  <a:pt x="483516" y="122634"/>
                  <a:pt x="122634" y="177539"/>
                  <a:pt x="122634" y="245268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空心弧 57"/>
          <p:cNvSpPr/>
          <p:nvPr/>
        </p:nvSpPr>
        <p:spPr>
          <a:xfrm flipV="1" rot="16200000">
            <a:off x="9457200" y="4287960"/>
            <a:ext cx="1428840" cy="490680"/>
          </a:xfrm>
          <a:custGeom>
            <a:avLst/>
            <a:gdLst/>
            <a:ahLst/>
            <a:rect l="l" t="t" r="r" b="b"/>
            <a:pathLst>
              <a:path w="1428750" h="490537">
                <a:moveTo>
                  <a:pt x="0" y="245268"/>
                </a:moveTo>
                <a:cubicBezTo>
                  <a:pt x="0" y="109810"/>
                  <a:pt x="319837" y="0"/>
                  <a:pt x="714375" y="0"/>
                </a:cubicBezTo>
                <a:cubicBezTo>
                  <a:pt x="1108913" y="0"/>
                  <a:pt x="1428750" y="109810"/>
                  <a:pt x="1428750" y="245268"/>
                </a:cubicBezTo>
                <a:lnTo>
                  <a:pt x="1306115" y="245268"/>
                </a:lnTo>
                <a:cubicBezTo>
                  <a:pt x="1306115" y="177539"/>
                  <a:pt x="1041184" y="122634"/>
                  <a:pt x="714375" y="122634"/>
                </a:cubicBezTo>
                <a:cubicBezTo>
                  <a:pt x="387566" y="122634"/>
                  <a:pt x="122635" y="177539"/>
                  <a:pt x="122635" y="245268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空心弧 58"/>
          <p:cNvSpPr/>
          <p:nvPr/>
        </p:nvSpPr>
        <p:spPr>
          <a:xfrm rot="16200000">
            <a:off x="2032560" y="4283280"/>
            <a:ext cx="1428840" cy="500400"/>
          </a:xfrm>
          <a:custGeom>
            <a:avLst/>
            <a:gdLst/>
            <a:ahLst/>
            <a:rect l="l" t="t" r="r" b="b"/>
            <a:pathLst>
              <a:path w="1428750" h="500062">
                <a:moveTo>
                  <a:pt x="0" y="250031"/>
                </a:moveTo>
                <a:cubicBezTo>
                  <a:pt x="0" y="111943"/>
                  <a:pt x="319837" y="0"/>
                  <a:pt x="714375" y="0"/>
                </a:cubicBezTo>
                <a:cubicBezTo>
                  <a:pt x="1108913" y="0"/>
                  <a:pt x="1428750" y="111943"/>
                  <a:pt x="1428750" y="250031"/>
                </a:cubicBezTo>
                <a:lnTo>
                  <a:pt x="1303734" y="250031"/>
                </a:lnTo>
                <a:cubicBezTo>
                  <a:pt x="1303734" y="180987"/>
                  <a:pt x="1039869" y="125016"/>
                  <a:pt x="714375" y="125016"/>
                </a:cubicBezTo>
                <a:cubicBezTo>
                  <a:pt x="388881" y="125016"/>
                  <a:pt x="125016" y="180987"/>
                  <a:pt x="125016" y="250031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8"/>
          <p:cNvSpPr/>
          <p:nvPr/>
        </p:nvSpPr>
        <p:spPr>
          <a:xfrm>
            <a:off x="977760" y="1172160"/>
            <a:ext cx="27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2"/>
          <p:cNvSpPr/>
          <p:nvPr/>
        </p:nvSpPr>
        <p:spPr>
          <a:xfrm>
            <a:off x="1415880" y="4330800"/>
            <a:ext cx="53038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管理学中有一个非常重要的目标设定原则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—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SMAR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则，由分别表示确定目标的五个基本原则的英文字母的字首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"/>
          <p:cNvSpPr/>
          <p:nvPr/>
        </p:nvSpPr>
        <p:spPr>
          <a:xfrm>
            <a:off x="7012080" y="1527120"/>
            <a:ext cx="81432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7012080" y="2530440"/>
            <a:ext cx="81432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5"/>
          <p:cNvSpPr/>
          <p:nvPr/>
        </p:nvSpPr>
        <p:spPr>
          <a:xfrm>
            <a:off x="7026120" y="3535200"/>
            <a:ext cx="78588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7026120" y="4538520"/>
            <a:ext cx="78588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7"/>
          <p:cNvSpPr/>
          <p:nvPr/>
        </p:nvSpPr>
        <p:spPr>
          <a:xfrm>
            <a:off x="7026120" y="5541840"/>
            <a:ext cx="78588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8"/>
          <p:cNvSpPr/>
          <p:nvPr/>
        </p:nvSpPr>
        <p:spPr>
          <a:xfrm>
            <a:off x="9353520" y="152712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9"/>
          <p:cNvSpPr/>
          <p:nvPr/>
        </p:nvSpPr>
        <p:spPr>
          <a:xfrm>
            <a:off x="9353520" y="253044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Measure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衡量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9353520" y="353520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达成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1"/>
          <p:cNvSpPr/>
          <p:nvPr/>
        </p:nvSpPr>
        <p:spPr>
          <a:xfrm>
            <a:off x="9353520" y="453852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Re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9353520" y="554184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Time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定时限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3"/>
          <p:cNvSpPr/>
          <p:nvPr/>
        </p:nvSpPr>
        <p:spPr>
          <a:xfrm>
            <a:off x="1887480" y="3081240"/>
            <a:ext cx="42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设定</a:t>
            </a:r>
            <a:r>
              <a:rPr b="1" lang="en-US" sz="5400" spc="-1" strike="noStrike">
                <a:solidFill>
                  <a:srgbClr val="ff9300"/>
                </a:solidFill>
                <a:latin typeface="微软雅黑"/>
                <a:ea typeface="微软雅黑"/>
              </a:rPr>
              <a:t>SMART</a:t>
            </a: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4"/>
          <p:cNvSpPr/>
          <p:nvPr/>
        </p:nvSpPr>
        <p:spPr>
          <a:xfrm>
            <a:off x="1415880" y="5587920"/>
            <a:ext cx="53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SMAR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则是一个很实际、很方便的实施原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6"/>
          <p:cNvSpPr/>
          <p:nvPr/>
        </p:nvSpPr>
        <p:spPr>
          <a:xfrm>
            <a:off x="1487520" y="4005360"/>
            <a:ext cx="4968720" cy="0"/>
          </a:xfrm>
          <a:prstGeom prst="line">
            <a:avLst/>
          </a:prstGeom>
          <a:ln w="76320">
            <a:solidFill>
              <a:srgbClr val="ff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虚尾箭头 8"/>
          <p:cNvSpPr/>
          <p:nvPr/>
        </p:nvSpPr>
        <p:spPr>
          <a:xfrm>
            <a:off x="8183520" y="1660680"/>
            <a:ext cx="936720" cy="519120"/>
          </a:xfrm>
          <a:custGeom>
            <a:avLst/>
            <a:gdLst/>
            <a:ahLst/>
            <a:rect l="l" t="t" r="r" b="b"/>
            <a:pathLst>
              <a:path w="936625" h="519112">
                <a:moveTo>
                  <a:pt x="0" y="78962"/>
                </a:moveTo>
                <a:lnTo>
                  <a:pt x="16222" y="78962"/>
                </a:lnTo>
                <a:lnTo>
                  <a:pt x="16222" y="440150"/>
                </a:lnTo>
                <a:lnTo>
                  <a:pt x="0" y="440150"/>
                </a:lnTo>
                <a:close/>
                <a:moveTo>
                  <a:pt x="32444" y="78962"/>
                </a:moveTo>
                <a:lnTo>
                  <a:pt x="64889" y="78962"/>
                </a:lnTo>
                <a:lnTo>
                  <a:pt x="64889" y="440150"/>
                </a:lnTo>
                <a:lnTo>
                  <a:pt x="32444" y="440150"/>
                </a:lnTo>
                <a:close/>
                <a:moveTo>
                  <a:pt x="81111" y="78962"/>
                </a:moveTo>
                <a:lnTo>
                  <a:pt x="677068" y="78962"/>
                </a:lnTo>
                <a:lnTo>
                  <a:pt x="677068" y="0"/>
                </a:lnTo>
                <a:lnTo>
                  <a:pt x="936625" y="259556"/>
                </a:lnTo>
                <a:lnTo>
                  <a:pt x="677068" y="519112"/>
                </a:lnTo>
                <a:lnTo>
                  <a:pt x="677068" y="440150"/>
                </a:lnTo>
                <a:lnTo>
                  <a:pt x="81111" y="44015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虚尾箭头 69"/>
          <p:cNvSpPr/>
          <p:nvPr/>
        </p:nvSpPr>
        <p:spPr>
          <a:xfrm>
            <a:off x="8183520" y="3668760"/>
            <a:ext cx="936720" cy="517320"/>
          </a:xfrm>
          <a:custGeom>
            <a:avLst/>
            <a:gdLst/>
            <a:ahLst/>
            <a:rect l="l" t="t" r="r" b="b"/>
            <a:pathLst>
              <a:path w="936625" h="517525">
                <a:moveTo>
                  <a:pt x="0" y="78720"/>
                </a:moveTo>
                <a:lnTo>
                  <a:pt x="16172" y="78720"/>
                </a:lnTo>
                <a:lnTo>
                  <a:pt x="16172" y="438804"/>
                </a:lnTo>
                <a:lnTo>
                  <a:pt x="0" y="438804"/>
                </a:lnTo>
                <a:close/>
                <a:moveTo>
                  <a:pt x="32345" y="78720"/>
                </a:moveTo>
                <a:lnTo>
                  <a:pt x="64690" y="78720"/>
                </a:lnTo>
                <a:lnTo>
                  <a:pt x="64690" y="438804"/>
                </a:lnTo>
                <a:lnTo>
                  <a:pt x="32345" y="438804"/>
                </a:lnTo>
                <a:close/>
                <a:moveTo>
                  <a:pt x="80863" y="78720"/>
                </a:moveTo>
                <a:lnTo>
                  <a:pt x="677862" y="78720"/>
                </a:lnTo>
                <a:lnTo>
                  <a:pt x="677862" y="0"/>
                </a:lnTo>
                <a:lnTo>
                  <a:pt x="936625" y="258762"/>
                </a:lnTo>
                <a:lnTo>
                  <a:pt x="677862" y="517525"/>
                </a:lnTo>
                <a:lnTo>
                  <a:pt x="677862" y="438804"/>
                </a:lnTo>
                <a:lnTo>
                  <a:pt x="80863" y="43880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虚尾箭头 71"/>
          <p:cNvSpPr/>
          <p:nvPr/>
        </p:nvSpPr>
        <p:spPr>
          <a:xfrm>
            <a:off x="8183520" y="4672080"/>
            <a:ext cx="936720" cy="519120"/>
          </a:xfrm>
          <a:custGeom>
            <a:avLst/>
            <a:gdLst/>
            <a:ahLst/>
            <a:rect l="l" t="t" r="r" b="b"/>
            <a:pathLst>
              <a:path w="936625" h="519112">
                <a:moveTo>
                  <a:pt x="0" y="78962"/>
                </a:moveTo>
                <a:lnTo>
                  <a:pt x="16222" y="78962"/>
                </a:lnTo>
                <a:lnTo>
                  <a:pt x="16222" y="440150"/>
                </a:lnTo>
                <a:lnTo>
                  <a:pt x="0" y="440150"/>
                </a:lnTo>
                <a:close/>
                <a:moveTo>
                  <a:pt x="32444" y="78962"/>
                </a:moveTo>
                <a:lnTo>
                  <a:pt x="64889" y="78962"/>
                </a:lnTo>
                <a:lnTo>
                  <a:pt x="64889" y="440150"/>
                </a:lnTo>
                <a:lnTo>
                  <a:pt x="32444" y="440150"/>
                </a:lnTo>
                <a:close/>
                <a:moveTo>
                  <a:pt x="81111" y="78962"/>
                </a:moveTo>
                <a:lnTo>
                  <a:pt x="677068" y="78962"/>
                </a:lnTo>
                <a:lnTo>
                  <a:pt x="677068" y="0"/>
                </a:lnTo>
                <a:lnTo>
                  <a:pt x="936625" y="259556"/>
                </a:lnTo>
                <a:lnTo>
                  <a:pt x="677068" y="519112"/>
                </a:lnTo>
                <a:lnTo>
                  <a:pt x="677068" y="440150"/>
                </a:lnTo>
                <a:lnTo>
                  <a:pt x="81111" y="44015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虚尾箭头 72"/>
          <p:cNvSpPr/>
          <p:nvPr/>
        </p:nvSpPr>
        <p:spPr>
          <a:xfrm>
            <a:off x="8183520" y="2665440"/>
            <a:ext cx="936720" cy="517320"/>
          </a:xfrm>
          <a:custGeom>
            <a:avLst/>
            <a:gdLst/>
            <a:ahLst/>
            <a:rect l="l" t="t" r="r" b="b"/>
            <a:pathLst>
              <a:path w="936625" h="517525">
                <a:moveTo>
                  <a:pt x="0" y="78720"/>
                </a:moveTo>
                <a:lnTo>
                  <a:pt x="16172" y="78720"/>
                </a:lnTo>
                <a:lnTo>
                  <a:pt x="16172" y="438804"/>
                </a:lnTo>
                <a:lnTo>
                  <a:pt x="0" y="438804"/>
                </a:lnTo>
                <a:close/>
                <a:moveTo>
                  <a:pt x="32345" y="78720"/>
                </a:moveTo>
                <a:lnTo>
                  <a:pt x="64690" y="78720"/>
                </a:lnTo>
                <a:lnTo>
                  <a:pt x="64690" y="438804"/>
                </a:lnTo>
                <a:lnTo>
                  <a:pt x="32345" y="438804"/>
                </a:lnTo>
                <a:close/>
                <a:moveTo>
                  <a:pt x="80863" y="78720"/>
                </a:moveTo>
                <a:lnTo>
                  <a:pt x="677862" y="78720"/>
                </a:lnTo>
                <a:lnTo>
                  <a:pt x="677862" y="0"/>
                </a:lnTo>
                <a:lnTo>
                  <a:pt x="936625" y="258762"/>
                </a:lnTo>
                <a:lnTo>
                  <a:pt x="677862" y="517525"/>
                </a:lnTo>
                <a:lnTo>
                  <a:pt x="677862" y="438804"/>
                </a:lnTo>
                <a:lnTo>
                  <a:pt x="80863" y="43880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虚尾箭头 73"/>
          <p:cNvSpPr/>
          <p:nvPr/>
        </p:nvSpPr>
        <p:spPr>
          <a:xfrm>
            <a:off x="8183520" y="5675400"/>
            <a:ext cx="936720" cy="519120"/>
          </a:xfrm>
          <a:custGeom>
            <a:avLst/>
            <a:gdLst/>
            <a:ahLst/>
            <a:rect l="l" t="t" r="r" b="b"/>
            <a:pathLst>
              <a:path w="936625" h="519112">
                <a:moveTo>
                  <a:pt x="0" y="78962"/>
                </a:moveTo>
                <a:lnTo>
                  <a:pt x="16222" y="78962"/>
                </a:lnTo>
                <a:lnTo>
                  <a:pt x="16222" y="440150"/>
                </a:lnTo>
                <a:lnTo>
                  <a:pt x="0" y="440150"/>
                </a:lnTo>
                <a:close/>
                <a:moveTo>
                  <a:pt x="32444" y="78962"/>
                </a:moveTo>
                <a:lnTo>
                  <a:pt x="64889" y="78962"/>
                </a:lnTo>
                <a:lnTo>
                  <a:pt x="64889" y="440150"/>
                </a:lnTo>
                <a:lnTo>
                  <a:pt x="32444" y="440150"/>
                </a:lnTo>
                <a:close/>
                <a:moveTo>
                  <a:pt x="81111" y="78962"/>
                </a:moveTo>
                <a:lnTo>
                  <a:pt x="677068" y="78962"/>
                </a:lnTo>
                <a:lnTo>
                  <a:pt x="677068" y="0"/>
                </a:lnTo>
                <a:lnTo>
                  <a:pt x="936625" y="259556"/>
                </a:lnTo>
                <a:lnTo>
                  <a:pt x="677068" y="519112"/>
                </a:lnTo>
                <a:lnTo>
                  <a:pt x="677068" y="440150"/>
                </a:lnTo>
                <a:lnTo>
                  <a:pt x="81111" y="44015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"/>
          <p:cNvSpPr/>
          <p:nvPr/>
        </p:nvSpPr>
        <p:spPr>
          <a:xfrm>
            <a:off x="1442880" y="1557360"/>
            <a:ext cx="98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结果：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千斤重担人人挑，人人肩上有指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23"/>
          <p:cNvGrpSpPr/>
          <p:nvPr/>
        </p:nvGrpSpPr>
        <p:grpSpPr>
          <a:xfrm>
            <a:off x="4623480" y="2019240"/>
            <a:ext cx="2851200" cy="4362480"/>
            <a:chOff x="4623480" y="2019240"/>
            <a:chExt cx="2851200" cy="4362480"/>
          </a:xfrm>
        </p:grpSpPr>
        <p:sp>
          <p:nvSpPr>
            <p:cNvPr id="590" name="圆角矩形 24"/>
            <p:cNvSpPr/>
            <p:nvPr/>
          </p:nvSpPr>
          <p:spPr>
            <a:xfrm>
              <a:off x="5927760" y="2019240"/>
              <a:ext cx="144360" cy="4329360"/>
            </a:xfrm>
            <a:custGeom>
              <a:avLst/>
              <a:gdLst>
                <a:gd name="textAreaLeft" fmla="*/ 20880 w 144360"/>
                <a:gd name="textAreaRight" fmla="*/ 123480 w 144360"/>
                <a:gd name="textAreaTop" fmla="*/ 20880 h 4329360"/>
                <a:gd name="textAreaBottom" fmla="*/ 4308480 h 4329360"/>
              </a:gdLst>
              <a:ahLst/>
              <a:rect l="textAreaLeft" t="textAreaTop" r="textAreaRight" b="textAreaBottom"/>
              <a:pathLst>
                <a:path w="21600" h="646227">
                  <a:moveTo>
                    <a:pt x="10800" y="0"/>
                  </a:moveTo>
                  <a:arcTo wR="10800" hR="10800" stAng="16200000" swAng="-5400000"/>
                  <a:lnTo>
                    <a:pt x="0" y="635427"/>
                  </a:lnTo>
                  <a:arcTo wR="10800" hR="10800" stAng="10800000" swAng="-5400000"/>
                  <a:lnTo>
                    <a:pt x="10800" y="6462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65"/>
            <p:cNvSpPr/>
            <p:nvPr/>
          </p:nvSpPr>
          <p:spPr>
            <a:xfrm>
              <a:off x="5656320" y="6204240"/>
              <a:ext cx="671400" cy="17748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100000">
                  <a:srgbClr val="eeece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组合 26"/>
            <p:cNvGrpSpPr/>
            <p:nvPr/>
          </p:nvGrpSpPr>
          <p:grpSpPr>
            <a:xfrm>
              <a:off x="5339880" y="2532600"/>
              <a:ext cx="1221840" cy="580320"/>
              <a:chOff x="5339880" y="2532600"/>
              <a:chExt cx="1221840" cy="580320"/>
            </a:xfrm>
          </p:grpSpPr>
          <p:sp>
            <p:nvSpPr>
              <p:cNvPr id="593" name="任意多边形 29"/>
              <p:cNvSpPr/>
              <p:nvPr/>
            </p:nvSpPr>
            <p:spPr>
              <a:xfrm>
                <a:off x="5339880" y="2620800"/>
                <a:ext cx="1221840" cy="492120"/>
              </a:xfrm>
              <a:custGeom>
                <a:avLst/>
                <a:gdLst/>
                <a:ahLst/>
                <a:rect l="l" t="t" r="r" b="b"/>
                <a:pathLst>
                  <a:path w="2025165" h="814204">
                    <a:moveTo>
                      <a:pt x="0" y="814204"/>
                    </a:moveTo>
                    <a:lnTo>
                      <a:pt x="1110765" y="0"/>
                    </a:lnTo>
                    <a:lnTo>
                      <a:pt x="2025165" y="543698"/>
                    </a:lnTo>
                  </a:path>
                </a:pathLst>
              </a:custGeom>
              <a:noFill/>
              <a:ln w="2556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" name="组合 30"/>
              <p:cNvGrpSpPr/>
              <p:nvPr/>
            </p:nvGrpSpPr>
            <p:grpSpPr>
              <a:xfrm>
                <a:off x="5925960" y="2532600"/>
                <a:ext cx="184680" cy="184680"/>
                <a:chOff x="5925960" y="2532600"/>
                <a:chExt cx="184680" cy="184680"/>
              </a:xfrm>
            </p:grpSpPr>
            <p:sp>
              <p:nvSpPr>
                <p:cNvPr id="595" name="椭圆 31"/>
                <p:cNvSpPr/>
                <p:nvPr/>
              </p:nvSpPr>
              <p:spPr>
                <a:xfrm>
                  <a:off x="5925960" y="2532600"/>
                  <a:ext cx="184680" cy="18468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  <a:effectLst>
                  <a:outerShdw dist="38160" dir="54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" name="组合 32"/>
                <p:cNvGrpSpPr/>
                <p:nvPr/>
              </p:nvGrpSpPr>
              <p:grpSpPr>
                <a:xfrm>
                  <a:off x="5931360" y="2536920"/>
                  <a:ext cx="176760" cy="176400"/>
                  <a:chOff x="5931360" y="2536920"/>
                  <a:chExt cx="176760" cy="176400"/>
                </a:xfrm>
              </p:grpSpPr>
              <p:pic>
                <p:nvPicPr>
                  <p:cNvPr id="597" name="椭圆 3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1267200">
                    <a:off x="5951160" y="2556720"/>
                    <a:ext cx="136440" cy="1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8" name="椭圆 34"/>
                  <p:cNvSpPr/>
                  <p:nvPr/>
                </p:nvSpPr>
                <p:spPr>
                  <a:xfrm rot="21390000">
                    <a:off x="5983560" y="2630880"/>
                    <a:ext cx="33480" cy="10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fff">
                          <a:alpha val="55294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椭圆 35"/>
                  <p:cNvSpPr/>
                  <p:nvPr/>
                </p:nvSpPr>
                <p:spPr>
                  <a:xfrm rot="2179200">
                    <a:off x="5987160" y="2592720"/>
                    <a:ext cx="30960" cy="1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ffffff">
                          <a:alpha val="51372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178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00" name="五边形 27"/>
            <p:cNvSpPr/>
            <p:nvPr/>
          </p:nvSpPr>
          <p:spPr>
            <a:xfrm rot="21119400">
              <a:off x="4644720" y="3006360"/>
              <a:ext cx="2808360" cy="504720"/>
            </a:xfrm>
            <a:custGeom>
              <a:avLst/>
              <a:gdLst>
                <a:gd name="textAreaLeft" fmla="*/ 0 w 2808360"/>
                <a:gd name="textAreaRight" fmla="*/ 2808720 w 28083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60" y="0"/>
                  </a:lnTo>
                  <a:lnTo>
                    <a:pt x="21600" y="10800"/>
                  </a:lnTo>
                  <a:lnTo>
                    <a:pt x="1966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300"/>
            </a:solidFill>
            <a:ln w="9360">
              <a:solidFill>
                <a:srgbClr val="f6924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28"/>
            <p:cNvSpPr/>
            <p:nvPr/>
          </p:nvSpPr>
          <p:spPr>
            <a:xfrm rot="21127200">
              <a:off x="5320440" y="3073320"/>
              <a:ext cx="13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剥洋葱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36"/>
          <p:cNvGrpSpPr/>
          <p:nvPr/>
        </p:nvGrpSpPr>
        <p:grpSpPr>
          <a:xfrm>
            <a:off x="1558800" y="3720960"/>
            <a:ext cx="3773520" cy="2187720"/>
            <a:chOff x="1558800" y="3720960"/>
            <a:chExt cx="3773520" cy="2187720"/>
          </a:xfrm>
        </p:grpSpPr>
        <p:sp>
          <p:nvSpPr>
            <p:cNvPr id="603" name="圆角矩形 37"/>
            <p:cNvSpPr/>
            <p:nvPr/>
          </p:nvSpPr>
          <p:spPr>
            <a:xfrm>
              <a:off x="1558800" y="4214520"/>
              <a:ext cx="3773520" cy="1694160"/>
            </a:xfrm>
            <a:prstGeom prst="roundRect">
              <a:avLst>
                <a:gd name="adj" fmla="val 3384"/>
              </a:avLst>
            </a:prstGeom>
            <a:solidFill>
              <a:srgbClr val="f2f2f2"/>
            </a:solidFill>
            <a:ln w="9360">
              <a:solidFill>
                <a:srgbClr val="bfbfbf"/>
              </a:solidFill>
              <a:round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8"/>
            <p:cNvSpPr/>
            <p:nvPr/>
          </p:nvSpPr>
          <p:spPr>
            <a:xfrm>
              <a:off x="1630080" y="4322520"/>
              <a:ext cx="363096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将大目标分解成若干小目标，再将每个小目标分解成若干个更小的目标，一直分解下去</a:t>
              </a: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</a:t>
              </a:r>
              <a:r>
                <a:rPr b="1" lang="zh-CN" sz="18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直到知道每个人该干什么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9"/>
            <p:cNvSpPr/>
            <p:nvPr/>
          </p:nvSpPr>
          <p:spPr>
            <a:xfrm>
              <a:off x="2788200" y="3720960"/>
              <a:ext cx="128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由大到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40"/>
          <p:cNvGrpSpPr/>
          <p:nvPr/>
        </p:nvGrpSpPr>
        <p:grpSpPr>
          <a:xfrm>
            <a:off x="6643800" y="3753000"/>
            <a:ext cx="3773520" cy="2155680"/>
            <a:chOff x="6643800" y="3753000"/>
            <a:chExt cx="3773520" cy="2155680"/>
          </a:xfrm>
        </p:grpSpPr>
        <p:sp>
          <p:nvSpPr>
            <p:cNvPr id="607" name="圆角矩形 41"/>
            <p:cNvSpPr/>
            <p:nvPr/>
          </p:nvSpPr>
          <p:spPr>
            <a:xfrm>
              <a:off x="6643800" y="4216320"/>
              <a:ext cx="3773520" cy="1692360"/>
            </a:xfrm>
            <a:prstGeom prst="roundRect">
              <a:avLst>
                <a:gd name="adj" fmla="val 3384"/>
              </a:avLst>
            </a:prstGeom>
            <a:solidFill>
              <a:srgbClr val="f2f2f2"/>
            </a:solidFill>
            <a:ln w="9360">
              <a:solidFill>
                <a:srgbClr val="bfbfbf"/>
              </a:solidFill>
              <a:round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42"/>
            <p:cNvSpPr/>
            <p:nvPr/>
          </p:nvSpPr>
          <p:spPr>
            <a:xfrm>
              <a:off x="6713640" y="4344840"/>
              <a:ext cx="36291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愿景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5-10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长期目标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2-3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的中期目标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个月至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的短期目标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月、周、日目标，</a:t>
              </a:r>
              <a:r>
                <a:rPr b="1" lang="zh-CN" sz="18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直到知道现在该干什么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43"/>
            <p:cNvSpPr/>
            <p:nvPr/>
          </p:nvSpPr>
          <p:spPr>
            <a:xfrm>
              <a:off x="7887600" y="37530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由远及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8"/>
          <p:cNvSpPr/>
          <p:nvPr/>
        </p:nvSpPr>
        <p:spPr>
          <a:xfrm>
            <a:off x="977760" y="117216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43"/>
          <p:cNvGrpSpPr/>
          <p:nvPr/>
        </p:nvGrpSpPr>
        <p:grpSpPr>
          <a:xfrm>
            <a:off x="3575160" y="2133720"/>
            <a:ext cx="7057800" cy="4248000"/>
            <a:chOff x="3575160" y="2133720"/>
            <a:chExt cx="7057800" cy="4248000"/>
          </a:xfrm>
        </p:grpSpPr>
        <p:sp>
          <p:nvSpPr>
            <p:cNvPr id="612" name="直角三角形 42"/>
            <p:cNvSpPr/>
            <p:nvPr/>
          </p:nvSpPr>
          <p:spPr>
            <a:xfrm flipH="1" flipV="1">
              <a:off x="3575160" y="4601520"/>
              <a:ext cx="179280" cy="1126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角三角形 41"/>
            <p:cNvSpPr/>
            <p:nvPr/>
          </p:nvSpPr>
          <p:spPr>
            <a:xfrm flipH="1" flipV="1">
              <a:off x="3575160" y="2763720"/>
              <a:ext cx="179280" cy="1108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角三角形 39"/>
            <p:cNvSpPr/>
            <p:nvPr/>
          </p:nvSpPr>
          <p:spPr>
            <a:xfrm>
              <a:off x="10455480" y="4570560"/>
              <a:ext cx="177480" cy="1126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角三角形 2"/>
            <p:cNvSpPr/>
            <p:nvPr/>
          </p:nvSpPr>
          <p:spPr>
            <a:xfrm>
              <a:off x="10455480" y="2801880"/>
              <a:ext cx="177480" cy="1126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组合 25"/>
            <p:cNvGrpSpPr/>
            <p:nvPr/>
          </p:nvGrpSpPr>
          <p:grpSpPr>
            <a:xfrm>
              <a:off x="3575160" y="2133720"/>
              <a:ext cx="7057800" cy="4248000"/>
              <a:chOff x="3575160" y="2133720"/>
              <a:chExt cx="7057800" cy="4248000"/>
            </a:xfrm>
          </p:grpSpPr>
          <p:sp>
            <p:nvSpPr>
              <p:cNvPr id="617" name="矩形 30"/>
              <p:cNvSpPr/>
              <p:nvPr/>
            </p:nvSpPr>
            <p:spPr>
              <a:xfrm>
                <a:off x="3728880" y="2133720"/>
                <a:ext cx="6745320" cy="4248000"/>
              </a:xfrm>
              <a:prstGeom prst="rect">
                <a:avLst/>
              </a:prstGeom>
              <a:solidFill>
                <a:srgbClr val="e9e9e9"/>
              </a:solidFill>
              <a:ln w="9360">
                <a:solidFill>
                  <a:srgbClr val="bfbfbf"/>
                </a:solidFill>
                <a:round/>
              </a:ln>
              <a:effectLst>
                <a:outerShdw dist="153753" dir="2700000" blurRad="0" rotWithShape="0">
                  <a:srgbClr val="000000">
                    <a:alpha val="2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矩形 31"/>
              <p:cNvSpPr/>
              <p:nvPr/>
            </p:nvSpPr>
            <p:spPr>
              <a:xfrm>
                <a:off x="3575160" y="2335320"/>
                <a:ext cx="2879640" cy="42696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01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上下一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矩形 32"/>
              <p:cNvSpPr/>
              <p:nvPr/>
            </p:nvSpPr>
            <p:spPr>
              <a:xfrm>
                <a:off x="7753320" y="2909880"/>
                <a:ext cx="2879640" cy="42840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资源保障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矩形 33"/>
              <p:cNvSpPr/>
              <p:nvPr/>
            </p:nvSpPr>
            <p:spPr>
              <a:xfrm>
                <a:off x="3575160" y="4173480"/>
                <a:ext cx="2879640" cy="42840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相互协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 34"/>
              <p:cNvSpPr/>
              <p:nvPr/>
            </p:nvSpPr>
            <p:spPr>
              <a:xfrm>
                <a:off x="7753320" y="4678560"/>
                <a:ext cx="2879640" cy="42840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4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平等尊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Box 35"/>
              <p:cNvSpPr/>
              <p:nvPr/>
            </p:nvSpPr>
            <p:spPr>
              <a:xfrm>
                <a:off x="3801960" y="2874960"/>
                <a:ext cx="294156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分目标要保持与总体目标方向一致，内容上下贯通，保证总体目标的实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Box 36"/>
              <p:cNvSpPr/>
              <p:nvPr/>
            </p:nvSpPr>
            <p:spPr>
              <a:xfrm>
                <a:off x="7753320" y="3486240"/>
                <a:ext cx="27208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目标分解中，要注意到各分目标所需要的条件及其限制因素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Box 37"/>
              <p:cNvSpPr/>
              <p:nvPr/>
            </p:nvSpPr>
            <p:spPr>
              <a:xfrm>
                <a:off x="3801960" y="4710240"/>
                <a:ext cx="294156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各分目标之间在内容与时间上要协调并同步发展，不能影响总体目标的实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Box 38"/>
              <p:cNvSpPr/>
              <p:nvPr/>
            </p:nvSpPr>
            <p:spPr>
              <a:xfrm>
                <a:off x="7753320" y="5178600"/>
                <a:ext cx="27208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在目标分解讨论中，上级要尊重下级，平等待人，耐心倾听下级意见</a:t>
                </a:r>
                <a:r>
                  <a:rPr b="0" lang="zh-CN" sz="1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矩形 44"/>
          <p:cNvSpPr/>
          <p:nvPr/>
        </p:nvSpPr>
        <p:spPr>
          <a:xfrm>
            <a:off x="1446120" y="1557360"/>
            <a:ext cx="38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进行目标分解时要遵循以下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3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施</a:t>
            </a: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椭圆 44"/>
          <p:cNvSpPr/>
          <p:nvPr/>
        </p:nvSpPr>
        <p:spPr>
          <a:xfrm>
            <a:off x="7169040" y="2309760"/>
            <a:ext cx="3429000" cy="342900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循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组合 6" descr=""/>
          <p:cNvPicPr/>
          <p:nvPr/>
        </p:nvPicPr>
        <p:blipFill>
          <a:blip r:embed="rId1"/>
          <a:stretch/>
        </p:blipFill>
        <p:spPr>
          <a:xfrm>
            <a:off x="8104320" y="1428840"/>
            <a:ext cx="2643120" cy="2287440"/>
          </a:xfrm>
          <a:prstGeom prst="rect">
            <a:avLst/>
          </a:prstGeom>
          <a:ln w="0">
            <a:noFill/>
          </a:ln>
        </p:spPr>
      </p:pic>
      <p:pic>
        <p:nvPicPr>
          <p:cNvPr id="630" name="组合 7" descr=""/>
          <p:cNvPicPr/>
          <p:nvPr/>
        </p:nvPicPr>
        <p:blipFill>
          <a:blip r:embed="rId2"/>
          <a:stretch/>
        </p:blipFill>
        <p:spPr>
          <a:xfrm>
            <a:off x="9244080" y="3254400"/>
            <a:ext cx="2347920" cy="2585880"/>
          </a:xfrm>
          <a:prstGeom prst="rect">
            <a:avLst/>
          </a:prstGeom>
          <a:ln w="0">
            <a:noFill/>
          </a:ln>
        </p:spPr>
      </p:pic>
      <p:pic>
        <p:nvPicPr>
          <p:cNvPr id="631" name="组合 13" descr=""/>
          <p:cNvPicPr/>
          <p:nvPr/>
        </p:nvPicPr>
        <p:blipFill>
          <a:blip r:embed="rId3"/>
          <a:stretch/>
        </p:blipFill>
        <p:spPr>
          <a:xfrm>
            <a:off x="7094520" y="4294080"/>
            <a:ext cx="2682720" cy="2266920"/>
          </a:xfrm>
          <a:prstGeom prst="rect">
            <a:avLst/>
          </a:prstGeom>
          <a:ln w="0">
            <a:noFill/>
          </a:ln>
        </p:spPr>
      </p:pic>
      <p:pic>
        <p:nvPicPr>
          <p:cNvPr id="632" name="组合 14" descr=""/>
          <p:cNvPicPr/>
          <p:nvPr/>
        </p:nvPicPr>
        <p:blipFill>
          <a:blip r:embed="rId4"/>
          <a:stretch/>
        </p:blipFill>
        <p:spPr>
          <a:xfrm>
            <a:off x="6257880" y="2185920"/>
            <a:ext cx="2379600" cy="2648160"/>
          </a:xfrm>
          <a:prstGeom prst="rect">
            <a:avLst/>
          </a:prstGeom>
          <a:ln w="0">
            <a:noFill/>
          </a:ln>
        </p:spPr>
      </p:pic>
      <p:sp>
        <p:nvSpPr>
          <p:cNvPr id="633" name="矩形 60"/>
          <p:cNvSpPr/>
          <p:nvPr/>
        </p:nvSpPr>
        <p:spPr>
          <a:xfrm>
            <a:off x="1446120" y="4840200"/>
            <a:ext cx="4865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进行目标实施的过程中，会出现一些不可预测的问题，比如，目标实施的环境、条件、资源等发生了变化，那么，要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根据实际情况对目标进行调整和反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6"/>
          <p:cNvGrpSpPr/>
          <p:nvPr/>
        </p:nvGrpSpPr>
        <p:grpSpPr>
          <a:xfrm>
            <a:off x="1558800" y="4232160"/>
            <a:ext cx="1204920" cy="511200"/>
            <a:chOff x="1558800" y="4232160"/>
            <a:chExt cx="1204920" cy="511200"/>
          </a:xfrm>
        </p:grpSpPr>
        <p:sp>
          <p:nvSpPr>
            <p:cNvPr id="635" name="圆角矩形 4"/>
            <p:cNvSpPr/>
            <p:nvPr/>
          </p:nvSpPr>
          <p:spPr>
            <a:xfrm>
              <a:off x="1558800" y="4232160"/>
              <a:ext cx="1204920" cy="511200"/>
            </a:xfrm>
            <a:prstGeom prst="roundRect">
              <a:avLst>
                <a:gd name="adj" fmla="val 3551"/>
              </a:avLst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矩形 3"/>
            <p:cNvSpPr/>
            <p:nvPr/>
          </p:nvSpPr>
          <p:spPr>
            <a:xfrm>
              <a:off x="1844640" y="4256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注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3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施</a:t>
            </a: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60"/>
          <p:cNvSpPr/>
          <p:nvPr/>
        </p:nvSpPr>
        <p:spPr>
          <a:xfrm>
            <a:off x="1446120" y="1609560"/>
            <a:ext cx="57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循环就像爬楼梯一样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不断前进，不断提高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图示 16" descr=""/>
          <p:cNvPicPr/>
          <p:nvPr/>
        </p:nvPicPr>
        <p:blipFill>
          <a:blip r:embed="rId1"/>
          <a:stretch/>
        </p:blipFill>
        <p:spPr>
          <a:xfrm>
            <a:off x="4727520" y="3840120"/>
            <a:ext cx="3691080" cy="2603520"/>
          </a:xfrm>
          <a:prstGeom prst="rect">
            <a:avLst/>
          </a:prstGeom>
          <a:ln w="0">
            <a:noFill/>
          </a:ln>
        </p:spPr>
      </p:pic>
      <p:pic>
        <p:nvPicPr>
          <p:cNvPr id="640" name="图示 17" descr=""/>
          <p:cNvPicPr/>
          <p:nvPr/>
        </p:nvPicPr>
        <p:blipFill>
          <a:blip r:embed="rId2"/>
          <a:stretch/>
        </p:blipFill>
        <p:spPr>
          <a:xfrm>
            <a:off x="7108920" y="1339920"/>
            <a:ext cx="3690720" cy="2603520"/>
          </a:xfrm>
          <a:prstGeom prst="rect">
            <a:avLst/>
          </a:prstGeom>
          <a:ln w="0">
            <a:noFill/>
          </a:ln>
        </p:spPr>
      </p:pic>
      <p:sp>
        <p:nvSpPr>
          <p:cNvPr id="641" name="直接连接符 18"/>
          <p:cNvSpPr/>
          <p:nvPr/>
        </p:nvSpPr>
        <p:spPr>
          <a:xfrm>
            <a:off x="5227560" y="6413400"/>
            <a:ext cx="2643120" cy="1800"/>
          </a:xfrm>
          <a:prstGeom prst="line">
            <a:avLst/>
          </a:prstGeom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19"/>
          <p:cNvSpPr/>
          <p:nvPr/>
        </p:nvSpPr>
        <p:spPr>
          <a:xfrm flipV="1">
            <a:off x="7869960" y="3914640"/>
            <a:ext cx="1800" cy="2500560"/>
          </a:xfrm>
          <a:prstGeom prst="line">
            <a:avLst/>
          </a:prstGeom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直接连接符 20"/>
          <p:cNvSpPr/>
          <p:nvPr/>
        </p:nvSpPr>
        <p:spPr>
          <a:xfrm>
            <a:off x="7870680" y="3913200"/>
            <a:ext cx="2357640" cy="1440"/>
          </a:xfrm>
          <a:prstGeom prst="line">
            <a:avLst/>
          </a:prstGeom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直接连接符 21"/>
          <p:cNvSpPr/>
          <p:nvPr/>
        </p:nvSpPr>
        <p:spPr>
          <a:xfrm flipV="1">
            <a:off x="10228320" y="1341360"/>
            <a:ext cx="0" cy="2571840"/>
          </a:xfrm>
          <a:prstGeom prst="line">
            <a:avLst/>
          </a:prstGeom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直接箭头连接符 22"/>
          <p:cNvCxnSpPr/>
          <p:nvPr/>
        </p:nvCxnSpPr>
        <p:spPr>
          <a:xfrm flipV="1">
            <a:off x="5227560" y="1341000"/>
            <a:ext cx="4929840" cy="5074560"/>
          </a:xfrm>
          <a:prstGeom prst="straightConnector1">
            <a:avLst/>
          </a:prstGeom>
          <a:ln w="22320">
            <a:solidFill>
              <a:srgbClr val="bfbfbf"/>
            </a:solidFill>
            <a:round/>
            <a:tailEnd len="med" type="arrow" w="med"/>
          </a:ln>
        </p:spPr>
      </p:cxnSp>
      <p:sp>
        <p:nvSpPr>
          <p:cNvPr id="646" name="TextBox 23"/>
          <p:cNvSpPr/>
          <p:nvPr/>
        </p:nvSpPr>
        <p:spPr>
          <a:xfrm>
            <a:off x="8370720" y="4003560"/>
            <a:ext cx="1785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阶段任务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水平不断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2"/>
          <p:cNvSpPr/>
          <p:nvPr/>
        </p:nvSpPr>
        <p:spPr>
          <a:xfrm>
            <a:off x="204840" y="5462640"/>
            <a:ext cx="51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4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检查实施结果及奖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7"/>
          <p:cNvSpPr/>
          <p:nvPr/>
        </p:nvSpPr>
        <p:spPr>
          <a:xfrm>
            <a:off x="1093680" y="2494080"/>
            <a:ext cx="5434200" cy="30337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8"/>
          <p:cNvSpPr/>
          <p:nvPr/>
        </p:nvSpPr>
        <p:spPr>
          <a:xfrm>
            <a:off x="1284120" y="2790720"/>
            <a:ext cx="5172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对照目标进行检查与考核，目标完成的质量可以与个人的薪水、升迁等挂钩，真正实现公司的总目标达成与每个人的业绩挂钩，从而使员工高度关注工作成效、并强化工作的动机，令企业内部运作进入“自动自发”的良性轨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10"/>
          <p:cNvSpPr/>
          <p:nvPr/>
        </p:nvSpPr>
        <p:spPr>
          <a:xfrm>
            <a:off x="977760" y="5664240"/>
            <a:ext cx="10787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也就是说，目标管理的后续步骤就是绩效考核，</a:t>
            </a: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绩效考核是实现目标管理的有力工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F:\360云盘\02-个人资料\！PPT图片及版面资源\05-PPT精选插图\02-商务类\02-商务人物\240458-1301230Z94344.jpg"/>
          <p:cNvPicPr/>
          <p:nvPr/>
        </p:nvPicPr>
        <p:blipFill>
          <a:blip r:embed="rId1"/>
          <a:stretch/>
        </p:blipFill>
        <p:spPr>
          <a:xfrm>
            <a:off x="6527880" y="2492280"/>
            <a:ext cx="5235480" cy="3035520"/>
          </a:xfrm>
          <a:prstGeom prst="rect">
            <a:avLst/>
          </a:prstGeom>
          <a:ln w="0">
            <a:noFill/>
          </a:ln>
        </p:spPr>
      </p:pic>
      <p:sp>
        <p:nvSpPr>
          <p:cNvPr id="653" name="矩形 12"/>
          <p:cNvSpPr/>
          <p:nvPr/>
        </p:nvSpPr>
        <p:spPr>
          <a:xfrm>
            <a:off x="1284120" y="4853160"/>
            <a:ext cx="5172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这个过程，即是实施“绩效考核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1"/>
          <p:cNvSpPr/>
          <p:nvPr/>
        </p:nvSpPr>
        <p:spPr>
          <a:xfrm>
            <a:off x="6035760" y="5199120"/>
            <a:ext cx="60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组合 1"/>
          <p:cNvGrpSpPr/>
          <p:nvPr/>
        </p:nvGrpSpPr>
        <p:grpSpPr>
          <a:xfrm>
            <a:off x="3849840" y="2519280"/>
            <a:ext cx="4492440" cy="916920"/>
            <a:chOff x="3849840" y="2519280"/>
            <a:chExt cx="4492440" cy="916920"/>
          </a:xfrm>
        </p:grpSpPr>
        <p:sp>
          <p:nvSpPr>
            <p:cNvPr id="428" name="文本占位符 3"/>
            <p:cNvSpPr/>
            <p:nvPr/>
          </p:nvSpPr>
          <p:spPr>
            <a:xfrm>
              <a:off x="4852080" y="2738160"/>
              <a:ext cx="3490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300"/>
                  </a:solidFill>
                  <a:latin typeface="Calibri"/>
                  <a:ea typeface="微软雅黑"/>
                </a:rPr>
                <a:t>目标知识概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Box 8"/>
            <p:cNvSpPr/>
            <p:nvPr/>
          </p:nvSpPr>
          <p:spPr>
            <a:xfrm>
              <a:off x="3849840" y="2519280"/>
              <a:ext cx="118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95959"/>
                  </a:solidFill>
                  <a:latin typeface="Stencil"/>
                  <a:ea typeface="微软雅黑"/>
                </a:rPr>
                <a:t>0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4"/>
          <p:cNvSpPr/>
          <p:nvPr/>
        </p:nvSpPr>
        <p:spPr>
          <a:xfrm>
            <a:off x="4768920" y="3605040"/>
            <a:ext cx="35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http://msnbcmedia.msn.com/i/reuters/2012-02-13t215837z_1_btre81c1p2300_rtroptp_3_motorola.jpg"/>
          <p:cNvPicPr/>
          <p:nvPr/>
        </p:nvPicPr>
        <p:blipFill>
          <a:blip r:embed="rId1"/>
          <a:stretch/>
        </p:blipFill>
        <p:spPr>
          <a:xfrm>
            <a:off x="6335640" y="2781360"/>
            <a:ext cx="5232600" cy="3483000"/>
          </a:xfrm>
          <a:prstGeom prst="rect">
            <a:avLst/>
          </a:prstGeom>
          <a:ln w="0">
            <a:noFill/>
          </a:ln>
        </p:spPr>
      </p:pic>
      <p:sp>
        <p:nvSpPr>
          <p:cNvPr id="432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4"/>
          <p:cNvSpPr/>
          <p:nvPr/>
        </p:nvSpPr>
        <p:spPr>
          <a:xfrm>
            <a:off x="793800" y="2781360"/>
            <a:ext cx="5541840" cy="3483000"/>
          </a:xfrm>
          <a:prstGeom prst="rect">
            <a:avLst/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4"/>
          <p:cNvSpPr/>
          <p:nvPr/>
        </p:nvSpPr>
        <p:spPr>
          <a:xfrm>
            <a:off x="979560" y="2887560"/>
            <a:ext cx="51163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代初，摩托罗拉公司决心获取美国国家品质奖，为此，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确定了生产合格率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9.997%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目标。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有摩托罗拉的员工都收到了一张卡片，上面标示着公司的目标，所有员工都面临着挑战，力求大幅度降低工作中的错误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4"/>
          <p:cNvSpPr/>
          <p:nvPr/>
        </p:nvSpPr>
        <p:spPr>
          <a:xfrm>
            <a:off x="979560" y="4721400"/>
            <a:ext cx="51163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果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，摩托罗拉因此减掉了昂贵的零件修复与替换工作，从而节省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美元，收入增加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利润提高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4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达到前所未有的记录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9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摩托罗拉如愿获得国家品质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871720" y="1638360"/>
            <a:ext cx="64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伟大的公司，因</a:t>
            </a:r>
            <a:r>
              <a:rPr b="1" lang="zh-CN" sz="4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标</a:t>
            </a: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伟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4"/>
          <p:cNvSpPr/>
          <p:nvPr/>
        </p:nvSpPr>
        <p:spPr>
          <a:xfrm>
            <a:off x="1473120" y="4437000"/>
            <a:ext cx="937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5000"/>
              </a:lnSpc>
              <a:buClr>
                <a:srgbClr val="595959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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	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结果，是希望，是欲望的具体表现形式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buClr>
                <a:srgbClr val="595959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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	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由动机至行为的驱动力，是一切行动的源动力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buClr>
                <a:srgbClr val="595959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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	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时刻专注的焦点，是专注力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9"/>
          <p:cNvSpPr/>
          <p:nvPr/>
        </p:nvSpPr>
        <p:spPr>
          <a:xfrm>
            <a:off x="1487520" y="4076640"/>
            <a:ext cx="9360000" cy="144360"/>
          </a:xfrm>
          <a:prstGeom prst="rect">
            <a:avLst/>
          </a:prstGeom>
          <a:solidFill>
            <a:srgbClr val="ff93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0"/>
          <p:cNvSpPr/>
          <p:nvPr/>
        </p:nvSpPr>
        <p:spPr>
          <a:xfrm>
            <a:off x="1487520" y="5877000"/>
            <a:ext cx="9360000" cy="144360"/>
          </a:xfrm>
          <a:prstGeom prst="rect">
            <a:avLst/>
          </a:prstGeom>
          <a:solidFill>
            <a:srgbClr val="ff93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4"/>
          <p:cNvSpPr/>
          <p:nvPr/>
        </p:nvSpPr>
        <p:spPr>
          <a:xfrm>
            <a:off x="1487520" y="2205000"/>
            <a:ext cx="93600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由以上的故事，我们可以简单的将目标理解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就是个人或组织所</a:t>
            </a: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期望的工作成果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就是希望达到的</a:t>
            </a: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未来状态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即指你想要完成的事，它可能很庞大或很微小，也许是未来或者就在今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http://myfitness.co.nz/img/goal.png"/>
          <p:cNvPicPr/>
          <p:nvPr/>
        </p:nvPicPr>
        <p:blipFill>
          <a:blip r:embed="rId1"/>
          <a:stretch/>
        </p:blipFill>
        <p:spPr>
          <a:xfrm>
            <a:off x="9480600" y="655560"/>
            <a:ext cx="2305080" cy="1771560"/>
          </a:xfrm>
          <a:prstGeom prst="rect">
            <a:avLst/>
          </a:prstGeom>
          <a:ln w="0">
            <a:noFill/>
          </a:ln>
        </p:spPr>
      </p:pic>
      <p:sp>
        <p:nvSpPr>
          <p:cNvPr id="443" name="文本框 1"/>
          <p:cNvSpPr/>
          <p:nvPr/>
        </p:nvSpPr>
        <p:spPr>
          <a:xfrm>
            <a:off x="1271520" y="623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4401360" y="158904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①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就是所要追求的结果，没有目标就没有收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对象 16" descr=""/>
          <p:cNvPicPr/>
          <p:nvPr/>
        </p:nvPicPr>
        <p:blipFill>
          <a:blip r:embed="rId1"/>
          <a:stretch/>
        </p:blipFill>
        <p:spPr>
          <a:xfrm>
            <a:off x="480960" y="215424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447" name="椭圆 12"/>
          <p:cNvSpPr/>
          <p:nvPr/>
        </p:nvSpPr>
        <p:spPr>
          <a:xfrm>
            <a:off x="5194440" y="3068640"/>
            <a:ext cx="217440" cy="216000"/>
          </a:xfrm>
          <a:prstGeom prst="ellipse">
            <a:avLst/>
          </a:prstGeom>
          <a:noFill/>
          <a:ln w="57240">
            <a:solidFill>
              <a:srgbClr val="f684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13"/>
          <p:cNvSpPr/>
          <p:nvPr/>
        </p:nvSpPr>
        <p:spPr>
          <a:xfrm>
            <a:off x="5194440" y="4029120"/>
            <a:ext cx="217440" cy="21600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4"/>
          <p:cNvSpPr/>
          <p:nvPr/>
        </p:nvSpPr>
        <p:spPr>
          <a:xfrm>
            <a:off x="5194440" y="4989600"/>
            <a:ext cx="217440" cy="215640"/>
          </a:xfrm>
          <a:prstGeom prst="ellipse">
            <a:avLst/>
          </a:prstGeom>
          <a:noFill/>
          <a:ln w="572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5"/>
          <p:cNvSpPr/>
          <p:nvPr/>
        </p:nvSpPr>
        <p:spPr>
          <a:xfrm>
            <a:off x="5194440" y="5950080"/>
            <a:ext cx="217440" cy="215640"/>
          </a:xfrm>
          <a:prstGeom prst="ellips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4"/>
          <p:cNvSpPr/>
          <p:nvPr/>
        </p:nvSpPr>
        <p:spPr>
          <a:xfrm>
            <a:off x="5751360" y="2708280"/>
            <a:ext cx="5600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f68426"/>
                </a:solidFill>
                <a:latin typeface="微软雅黑"/>
                <a:ea typeface="微软雅黑"/>
              </a:rPr>
              <a:t>27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没有目标的人，生活在社会最底层，生活过得很不如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4"/>
          <p:cNvSpPr/>
          <p:nvPr/>
        </p:nvSpPr>
        <p:spPr>
          <a:xfrm>
            <a:off x="5751360" y="3740040"/>
            <a:ext cx="5600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60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模糊的人，生活在社会的中下层，并无突出成就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4"/>
          <p:cNvSpPr/>
          <p:nvPr/>
        </p:nvSpPr>
        <p:spPr>
          <a:xfrm>
            <a:off x="5751360" y="4770360"/>
            <a:ext cx="56008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10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清晰但较短期目标的人，生活在社会的中上层，在各自所在的领域里取得了相当的成就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4"/>
          <p:cNvSpPr/>
          <p:nvPr/>
        </p:nvSpPr>
        <p:spPr>
          <a:xfrm>
            <a:off x="5751360" y="5800680"/>
            <a:ext cx="5600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3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清晰且长期目标的人，成为各领域顶尖人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2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"/>
          <p:cNvSpPr/>
          <p:nvPr/>
        </p:nvSpPr>
        <p:spPr>
          <a:xfrm rot="19741800">
            <a:off x="10325880" y="2120400"/>
            <a:ext cx="9122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研究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299 -0.07863 L 3.6638E-006 1.72988E-006 E">
                                      <p:cBhvr>
                                        <p:cTn id="24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2299 0.22225 L 3.6638E-006 3.14524E-007 E">
                                      <p:cBhvr>
                                        <p:cTn id="29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20635 -0.41096 L 3.6638E-006 -2.36818E-006 E">
                                      <p:cBhvr>
                                        <p:cTn id="34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12361 -0.45629 L 3.6638E-006 -3.78353E-006 E">
                                      <p:cBhvr>
                                        <p:cTn id="39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60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矩形 3"/>
          <p:cNvSpPr/>
          <p:nvPr/>
        </p:nvSpPr>
        <p:spPr>
          <a:xfrm>
            <a:off x="5735520" y="476280"/>
            <a:ext cx="6456600" cy="2376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"/>
          <p:cNvSpPr/>
          <p:nvPr/>
        </p:nvSpPr>
        <p:spPr>
          <a:xfrm>
            <a:off x="5735520" y="5175360"/>
            <a:ext cx="631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你明确地知道自己想要的是什么，你才能得到什么；你不知道自己追求的是什么，你自然什么也得不到。目标界定了你所要追求的结果，是你努力奋斗的理由。没有目标或者失去目标，就没有了着力点，到头来终将一事无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6891480" y="714240"/>
            <a:ext cx="32097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仕宦当做执金吾，娶妻当得阴丽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一万年来谁著史，八千里外觅封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大丈夫当如此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彼可取而代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6"/>
          <p:cNvSpPr/>
          <p:nvPr/>
        </p:nvSpPr>
        <p:spPr>
          <a:xfrm>
            <a:off x="3309840" y="1589040"/>
            <a:ext cx="60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②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使我们感觉到生存的意义和价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2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1379520" y="5732640"/>
            <a:ext cx="9540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心中有了理想，你就会感到生存的重要意义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如果这个理想又是由一个个目标组成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那么，你就会觉得为目标付出努力是有价值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F:\360云盘\02-个人资料\！PPT图片及版面资源\05-PPT精选插图\01-生活类\01-生活综合\look.com.ua-73651.jpg"/>
          <p:cNvPicPr/>
          <p:nvPr/>
        </p:nvPicPr>
        <p:blipFill>
          <a:blip r:embed="rId1"/>
          <a:stretch/>
        </p:blipFill>
        <p:spPr>
          <a:xfrm>
            <a:off x="2825640" y="2133720"/>
            <a:ext cx="7008840" cy="3502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矩形 1"/>
          <p:cNvSpPr/>
          <p:nvPr/>
        </p:nvSpPr>
        <p:spPr>
          <a:xfrm>
            <a:off x="623880" y="1197000"/>
            <a:ext cx="648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父子俩在雪地上玩耍，朝着远处的树走去，比谁在雪地上踩踏出的脚印，连成的线最直。结果如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4"/>
          <p:cNvSpPr/>
          <p:nvPr/>
        </p:nvSpPr>
        <p:spPr>
          <a:xfrm>
            <a:off x="623880" y="0"/>
            <a:ext cx="719280" cy="907920"/>
          </a:xfrm>
          <a:prstGeom prst="rect">
            <a:avLst/>
          </a:prstGeom>
          <a:solidFill>
            <a:srgbClr val="ff9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5"/>
          <p:cNvSpPr/>
          <p:nvPr/>
        </p:nvSpPr>
        <p:spPr>
          <a:xfrm>
            <a:off x="693720" y="324000"/>
            <a:ext cx="602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③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是灯塔，目标指引了我们前进的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6"/>
          <p:cNvSpPr/>
          <p:nvPr/>
        </p:nvSpPr>
        <p:spPr>
          <a:xfrm>
            <a:off x="623880" y="2133720"/>
            <a:ext cx="648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何父亲走的直呢？因为父亲的眼睛一直盯着前方的目标，也就是那棵树；而儿子呢，走着走着，就把目标给忘了，等发现走偏了，只好重新矫正，反复多次，就形成了一些曲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"/>
          <p:cNvSpPr/>
          <p:nvPr/>
        </p:nvSpPr>
        <p:spPr>
          <a:xfrm>
            <a:off x="7920" y="5527800"/>
            <a:ext cx="90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7T16:29:22Z</dcterms:created>
  <dc:creator>Administrator</dc:creator>
  <dc:description/>
  <dc:language>en-US</dc:language>
  <cp:lastModifiedBy>Administrator</cp:lastModifiedBy>
  <dcterms:modified xsi:type="dcterms:W3CDTF">2017-07-07T16:31:47Z</dcterms:modified>
  <cp:revision>2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